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59.png" ContentType="image/png"/>
  <Override PartName="/ppt/media/image16.wmf" ContentType="image/x-wmf"/>
  <Override PartName="/ppt/media/image4.wmf" ContentType="image/x-wmf"/>
  <Override PartName="/ppt/media/image57.wmf" ContentType="image/x-wmf"/>
  <Override PartName="/ppt/media/image56.wmf" ContentType="image/x-wmf"/>
  <Override PartName="/ppt/media/image11.wmf" ContentType="image/x-wmf"/>
  <Override PartName="/ppt/media/image48.wmf" ContentType="image/x-wmf"/>
  <Override PartName="/ppt/media/image3.png" ContentType="image/png"/>
  <Override PartName="/ppt/media/image36.wmf" ContentType="image/x-wmf"/>
  <Override PartName="/ppt/media/image10.png" ContentType="image/png"/>
  <Override PartName="/ppt/media/image50.wmf" ContentType="image/x-wmf"/>
  <Override PartName="/ppt/media/image28.wmf" ContentType="image/x-wmf"/>
  <Override PartName="/ppt/media/image6.wmf" ContentType="image/x-wmf"/>
  <Override PartName="/ppt/media/image18.wmf" ContentType="image/x-wmf"/>
  <Override PartName="/ppt/media/image20.png" ContentType="image/png"/>
  <Override PartName="/ppt/media/image35.png" ContentType="image/png"/>
  <Override PartName="/ppt/media/image5.png" ContentType="image/png"/>
  <Override PartName="/ppt/media/image27.wmf" ContentType="image/x-wmf"/>
  <Override PartName="/ppt/media/image31.png" ContentType="image/png"/>
  <Override PartName="/ppt/media/image15.wmf" ContentType="image/x-wmf"/>
  <Override PartName="/ppt/media/image17.wmf" ContentType="image/x-wmf"/>
  <Override PartName="/ppt/media/image25.wmf" ContentType="image/x-wmf"/>
  <Override PartName="/ppt/media/image62.png" ContentType="image/png"/>
  <Override PartName="/ppt/media/image23.wmf" ContentType="image/x-wmf"/>
  <Override PartName="/ppt/media/image63.wmf" ContentType="image/x-wmf"/>
  <Override PartName="/ppt/media/image26.wmf" ContentType="image/x-wmf"/>
  <Override PartName="/ppt/media/image61.png" ContentType="image/png"/>
  <Override PartName="/ppt/media/image22.wmf" ContentType="image/x-wmf"/>
  <Override PartName="/ppt/media/image19.png" ContentType="image/png"/>
  <Override PartName="/ppt/media/image60.png" ContentType="image/png"/>
  <Override PartName="/ppt/media/image58.wmf" ContentType="image/x-wmf"/>
  <Override PartName="/ppt/media/image64.png" ContentType="image/png"/>
  <Override PartName="/ppt/media/image21.wmf" ContentType="image/x-wmf"/>
  <Override PartName="/ppt/media/image24.wmf" ContentType="image/x-wmf"/>
  <Override PartName="/ppt/media/image32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1.png" ContentType="image/png"/>
  <Override PartName="/ppt/media/image13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9.wmf" ContentType="image/x-wmf"/>
  <Override PartName="/ppt/media/image39.wmf" ContentType="image/x-wmf"/>
  <Override PartName="/ppt/media/image41.png" ContentType="image/png"/>
  <Override PartName="/ppt/media/image30.wmf" ContentType="image/x-wmf"/>
  <Override PartName="/ppt/media/image33.wmf" ContentType="image/x-wmf"/>
  <Override PartName="/ppt/media/image34.png" ContentType="image/png"/>
  <Override PartName="/ppt/media/image38.wmf" ContentType="image/x-wmf"/>
  <Override PartName="/ppt/media/image40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9.png" ContentType="image/png"/>
  <Override PartName="/ppt/media/image52.wmf" ContentType="image/x-wmf"/>
  <Override PartName="/ppt/media/image29.png" ContentType="image/png"/>
  <Override PartName="/ppt/media/image51.wmf" ContentType="image/x-wmf"/>
  <Override PartName="/ppt/media/image53.png" ContentType="image/png"/>
  <Override PartName="/ppt/media/image5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dt" idx="70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ftr" idx="71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 type="sldNum" idx="72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8213-6E23-481D-9892-C923206794A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2691-9DE8-4DC8-AB54-8D3330AAEB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DA6-8F4E-4644-960F-D646E5BC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257C-631E-4F2A-8BB0-B97EAFBE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BC51C-FEF7-4A3B-898F-9BEE6C34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96B40-C8D3-4ABC-96DC-1F63A6C4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37896-754C-485E-9C74-4B7173D5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1B800-F353-4037-969C-8FA98F70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B9313-22E4-4B76-8B9E-9D9110E3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70C25-206B-4764-B8E4-1F7CBCC9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41716-369D-4B0C-948E-0DD1E45B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2EF85-8BBA-4F2E-9388-24A7472F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0CE4F0-C7A9-4003-8981-23BC76BD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66240-E759-43E7-AF5F-AD4D2AAA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C11-8F7C-4063-9818-19ED6689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745ED-DA6B-4B30-B283-16EFB89D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C2B3B-5F1A-4C3F-839D-4440B19B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31A34-FDFF-45BB-BFFB-6D07A95A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F110E-5A13-45D9-9638-69A47BAF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A59E3-773E-45D7-B9C7-BEE85F88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42B36-0C2F-47D2-9AC6-D70524A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64AFD-702E-4F9C-A8D9-5AEB6392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07F26-ECA5-442D-90A5-38754148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B07C1-557D-458E-9B83-69099EE9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F91BF-73F8-44FA-9D1C-47B1EBB3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220-BEDC-4A93-8F04-1294FE49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AD361-19B0-4391-9B28-78FEE02C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277CE-20AE-4DDA-BD7A-B30C54C39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1CF94-39FC-4DBA-9E5E-663BBCD7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0A4F9-C236-4D67-9992-8C01E5BD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A58B7-B0D7-49E9-91B9-76956A65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7F902-533B-4B1D-B74E-164452C7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D9526-10CA-4A10-9FCE-BAD354A8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1A088-C068-472F-8FBD-E5E55297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B9A2F-EE47-427F-981F-53BE81FE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8DC97-6896-4C5A-9668-AF20178C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571F-8AAB-4D98-A4E1-A8E7E0E3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A333E-9B03-40F1-8F5B-DDF7999E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CA4CB-715E-4D8B-B387-0BACA29B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C2C1A-74E3-415A-BDA1-E1E5A876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7E5C6-F981-4D2D-A5EA-0E7D3456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53A81-BD24-4B09-9B12-2952BEFE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427B3-A3A0-4F66-8900-C010E50E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2ACDE-526A-41AE-8F4F-DE296D79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212B0-5052-4FFB-AA09-3DD8F076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B8D9F-6698-4497-A551-C76840CA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C5907A-7439-48BD-9B6F-580AEE29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E09E-FAEC-4D34-AAB4-D6239D8D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6333A-2A0A-49CE-8196-5EE1CE47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E5E8B-241C-48CB-95F3-FAAAA12D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EA43D-3DDF-4F47-A254-AE53836B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E9AEB-1C68-4F56-86B7-C286CB7B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1F760-E280-4FF5-B203-F5D4F5A2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B226A-5A28-4880-8E45-0BE913BF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B9F3C-7450-420C-80D4-F8157F67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31488-5B5D-4392-8216-12E266D2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16F6C5-967A-45A4-836E-4735B434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5408B-2C26-4554-8022-3EB09842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6A48-F1EC-4D1A-85C9-950681E6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76DF4-109F-4E12-A353-A108E628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E9F31-FABE-4FDE-BECB-82BCE1E7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045F8F-D911-4F67-90CF-5F35D8BF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8CE15-2B1C-4085-9730-8986958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F5874-4A4A-4EC8-BD69-997922AE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1A1CD-F9A3-45F5-9B7A-EC3878D7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55DA45-68E4-4C2E-B837-E7BB69BB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49A05-845A-4077-ADFF-FEE4D980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AFE16-DC9C-467A-8095-5E7A212D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B0CDD6-EE63-4A5B-A60C-F809FB4C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05D4-7B95-47CC-9207-4834E8ED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FB1049-EFD9-486D-8A6F-5B3F6909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4399B-3BE8-405A-8E11-A6505040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54367-B934-461F-8978-64C5D61C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5EBB3-076A-422F-908F-3A56E1DE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ACD31-D390-41AB-900E-60B52517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3A66F-6B7B-444B-9802-E2A5D0DB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986F5-ED8F-4F1A-AAF3-C495F6BF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E9931-8322-44F0-85B8-2D882614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6F511-9270-4507-A6FC-52D5933A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845EE-E542-4336-BFB6-CEEB78EC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EDC7-E044-49DB-9A99-EF1DB809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EF84C6-FEFA-4824-BAEC-FD8C7DB8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7D94F9-1DCD-4832-89D5-F6D25EB4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1D0FB9-D4AD-4763-8EF3-0A3BC38E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15DE2-D376-47FF-8058-225D324E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DD3637-DF65-4FAB-AD3D-08016413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ED986-A509-4789-A598-B831EC27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4D518B-49CE-4361-B230-B8E2C585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75189-1E92-4272-A734-D586E0AC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06DE5-75E0-4AE3-A1B7-E32BE7C0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3CBA6-4DDA-4F81-AAFD-FB084337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BD62-EDDD-4FB5-A4AD-AE00F362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377BD-BD3C-4A34-84FC-E0E4EFDF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74014-4A53-4B60-A3FB-097D2BED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A3C2D-CDD0-4DD9-B283-ACC5642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653419-1410-4963-B6DD-DFEE50EC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7664A-0816-41A4-B19A-6CD5A581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407236-0F17-4249-A297-7BF67D65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C86061-5EB7-45C0-B990-32D30A68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98C62-FFF3-4789-BD43-021B2440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9ED4AF-52EF-49BE-AE2B-88C0B769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30AE6-0A71-4371-8AEC-CCE24D88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CE9C-9519-41D8-85A5-4B9C05A1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FC449-9D44-4A5F-8BFB-9C35253E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1ACC9-D7D5-482F-92CD-B393DC22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ECDBC-09A3-428F-863B-F76B50D0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FB121A-71F7-46C7-8045-DB1767A5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5599FE-0954-46EC-8B1C-09AF76C7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98430-9999-4C79-BFEC-D14EF7E1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E5B978-7031-415D-BF1F-8CBC6268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7C79E-9E13-425E-8181-EDFB3A7F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0F649-7C22-4D95-B65E-9F7B0F8A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4734F3-A832-4ACF-AD62-DBE151DD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EFB7-C145-43FC-B5A7-2BFC0149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0B64-D735-4E58-835F-B610E605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EF9DC2-84E1-4AD1-B413-6A246A4A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8EE7F-1B21-47D7-9683-0155EB00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797AC-A071-4593-95C2-0AC7B68D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0E38FB-8C85-47AC-92A9-9A3EC3FE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99CF7-37B8-4B6F-8FB2-C98334F9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62258-5C9E-46A7-BE25-35D878A2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9CB5B8-F517-4327-B9DF-A00A09A4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25978-4510-4806-AE78-7138CED5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2D2219-8C9C-4A44-B04C-42E2052D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9C67D0-D8FB-41E1-9A30-D30E042D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BD37-4B46-4D1C-B831-8A7C81B6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91D2F-2160-4D0F-BF91-8330B6F7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99D56-2820-4570-A380-39C5D6E0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ACA873-7BC5-49BA-BF74-1A78D3A6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216A43-83E0-4ED0-9927-AAA5DD1A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BB2591-7BCA-45EC-A8EB-C49C81E4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6B357A-B7B9-42E6-B064-770CC208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100BB2-853B-496D-A62F-57076556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ABACD2-0C27-4DF2-92F5-A881E5ED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9E34E8-F2A9-4382-BDB8-304B928B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97D1AC-95FB-4C06-A8EA-35317B96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E530-C956-4B6E-BA55-1393DF6E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F845F2-84DD-48A1-8D6D-9D8B4C39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D7F24D-55FC-43DF-BBB4-25B24D2E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0666E3-6A72-43E6-B3E4-31112337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6EAFFC-95B9-4937-83B1-B4A99B3F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A7A09B-E5DC-4A91-9D0D-638F2392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74B11E-A83A-43F0-AD15-D0655733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38BCFE-B3DD-4526-82CB-55889210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15F51-9EE7-4A50-805D-0EE50A11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43C5E-54E4-4AB0-B08F-6BE46EE2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47912B-8C1B-43E9-82CD-7F6CCB2A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C05D-31D0-46F8-885B-2963BABD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130051-6382-4F1E-9D1D-A7A8F207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51AA06-B2EA-4BAB-B4EE-6198A065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5CE00F-6B09-4019-9491-9374EECC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C887E-AD89-4F34-99FB-2E90C330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F33AFB-6167-48B6-B39F-EA9FE7F0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95E60-BC33-4CFA-A338-E3468A39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41418-D5A4-49FF-B196-3B0E9C52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A4072C-FFAE-4B31-8062-64BA9858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F7CD4F-55F9-4680-898B-F24D3CBA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85BBB-DFCC-4B31-B1DB-350DCAFE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4D19-1A9B-43F2-8082-84AB3A64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B3171-7039-4CF5-B705-AC049AB9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1BF3D-75C2-447A-BF3B-FE17A3E2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FEACB3-0BC1-449F-9F7E-3EADEAB8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A832F-CE5E-49B1-A940-50A50EDA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03270D-55BC-4664-96F7-50C911F6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3DEF7D-E86D-443D-B0A8-EE1409C7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76CED6-9B46-4325-AAF5-748AE2D4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5D9CE6-A47A-4CE5-A0F4-A76AF14F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A20584-671E-4D12-859D-999D2F71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57DEA4-44BF-485A-84BD-AF1E7CBE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7CD9C-E6C0-4BD6-B99C-2DB3CD6C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F1AB0B-8F0C-43A7-8216-A11A7B53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5AFCF6-3631-44E4-BBE7-4AF7714E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C0533A-798C-49EB-BAFD-148A45D0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C17DF1-ABE0-40B2-B9ED-4203D56C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86983E-1430-4553-8960-0894E541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D186FF-4575-4FD0-913F-91902D4C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489FF9-84B0-4983-9A2F-BF0B1E0E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1BECF8-370C-4494-BAEC-A8D20FF0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63F7D3-3965-4C5E-86E5-A089C875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BDBBBC-27F5-49D3-8DCC-87FC46BD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2802B-6D32-4553-848B-F117BC79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9E5DA0-224D-4DE3-BE6A-70EA285C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852FCE-83C3-4961-ADFD-804C851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78D352-B358-401C-8603-5568F171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AC7212-28D9-4FE0-AE5D-535C9FA3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EBA336-1F47-4ABA-9F35-AE92F624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E16D90-CE6E-4442-AF17-DB4AF306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28A913-714D-4505-B613-AF74D8C6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93BE47-D57B-4672-BCDB-D6B1C9CA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FB93FF-2F10-4584-91CD-72BCD58F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3FA493-AB05-4E3D-8838-D90788D5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9D85-F152-4A28-86CC-95853215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DC4E1D-F56B-4304-871D-EBD9E033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800F9C-0C38-48C0-8451-2BC9CF59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33A89C-2D6A-4E93-9D8D-08553F3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E0ABE4-5442-46CF-933A-90A6FA8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83E733-0669-4734-A59C-741EA2FC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3142C9-D059-4153-868B-A8D5E4B6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17C185-119D-4A22-BBF1-43C63905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3B5B-45E3-4861-937C-8478EBAE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171D-98B1-4BC5-A941-96E86AD3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558-E763-4757-9003-66365ACF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07D0-B695-4284-BE9D-859FC5C3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B85B0-3E91-44CC-B9D4-A2EA9D59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45C9-D5F7-4A41-867C-BE51EC7D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FB81B-8F21-485E-A3D4-781AD8D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7BFA7-1AF0-4D85-BF12-B130B02B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212C-3E5E-4C93-86A8-B3F7D9F0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6E3B-4FC2-4BBA-8927-134AA8A1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85522-6D36-4DD9-9C30-6603D7AA3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E26FB-0242-4709-A9D0-BFE24509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3BD78-D788-4AD9-A347-6DE991C4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F5E-3421-4D80-9481-F728ADA9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7FCEB-53FB-4258-AC69-9868B6C4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32DBD-F840-4A70-8645-F4EC37CE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27881-B43C-4321-8D79-508E5CC3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0AD3-56D2-42C7-BB10-D015C6AB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1369E-808C-41E7-AF16-E807D682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00D16-9B89-465B-A4F4-36C64A25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4C309-4D87-4692-A81A-9F297021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22A7-422F-48FE-ACF7-D6B2E1D7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43AEF-4E45-41F9-9C51-42F97456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31769-2281-4BCE-B492-BD783925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734-2F20-4625-B491-04EE5578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122D-961B-4427-AF24-463CCD71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86B0-B3E6-429C-87E7-1DF0070C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F43FD-DD27-402F-941F-A8CD4B0C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983F7-8CEA-42E9-893E-3B2FC79E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14DBD-8314-46FA-B46B-BF3975FB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26FD5-B10E-4748-970C-AE47F630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FE838-E92E-49CB-9C4B-F501BFE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FEDC5-EAC3-41FD-B8A3-EE12E351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80579-F147-43AD-8DEF-B4C2E160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1BA54-4175-4A59-8B6D-23FC6A7E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831-3A3F-4F3E-ADE9-1BF3D43D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16517-4B57-4BA1-B717-09309258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927B-FE9A-40F5-8BF1-97CDB8EA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E2037-C4D1-49D6-8372-343614E1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4C2C9-F655-455A-9458-ADAD6041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C97D8-E646-43AA-9C5C-7337C1A53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17749-4689-4BDE-AE3F-2C62B116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97739-5FDF-4F64-A1D8-455D0D99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E2399-F14F-4E16-925A-3BC708FB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574B5-4934-4EF8-BD37-051BC98E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D9CBD-DA88-44F3-A162-6BA7E19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64D3-5410-4F5F-B929-180E25D2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AC1DB-6BAC-4131-BFF5-276A82B6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7EF78-B41E-41B4-BB1E-2F771B00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4BB58-5F7E-443E-B591-26025945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C5A24-83AF-4895-B9A9-74737662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3706D-C48F-49A4-B570-1B51266E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48D80-9690-44CF-9CD7-630A7743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5C6C8-3B54-415F-82C0-5EF4F0DB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0835A-01AE-4FAB-8452-7F7C310B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FAC8D-F6B4-4D20-A7F7-8889E24F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A073B-D7BD-41C5-96F4-D6C124A9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FAC-5EAE-426D-9EA2-FC563778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50768-FA94-4F98-BE57-DD7C2107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5217D-5B6D-4853-9B1B-7D39F519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2B079-45AC-47AF-8E51-AF9F0962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5B8AD-B345-4F28-9F15-AA469416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8EF3E-0BB5-4D8D-A495-74809444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2E725-B345-43D3-A9E5-29221A8C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A05E2-5A0A-41EA-9B9B-54D9CDAC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657C1-02A1-4B00-BDC4-1A0A2173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6D14D-CD15-4886-8D37-F2C3BCA2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FB03F-F929-4CEB-8206-55B8DCCE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2D1-96D3-4DFB-8D59-A49FEE00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A0BC6-516F-4BC7-BE89-2DFB33AA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AC77F-852F-40FD-96FD-79D08071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F4FAC-E56E-4480-8A0C-A6B8A4B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99157-E9A0-4B7A-8AE1-A6D28F2B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0E377-DF88-4336-8D26-F8B00FA7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420A1-60EC-420B-AB1E-54AE9B65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2B4D0A-98CA-43A6-923E-5FFEFAD8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90453-4B74-46AA-BBD1-D1288DD1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8EE0F-23F7-49F1-90CD-80685420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7E2D1-6570-4A61-AEE0-57BF9693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B1A9-6BB3-444A-8392-F35EC65A81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6AA0-7778-4D97-8077-C3613A4C006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D6F1-962B-42F2-B01B-30D3F57C3DC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A331-4A4B-4E84-9A40-25BFB7D5FC38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4C13-8C38-4A8B-BB3C-ABCA07571108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5FF1-D4F1-4F4C-B0C5-5F38E0DD0DA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E0E8-BE44-45F7-A447-DA3EC970EB83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8359-0BEE-47CD-9190-474E62759DC4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0F31-496F-4B92-AD8A-0B9D3D746F99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53C7-47E3-4AA8-8D94-6D96A676736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484A-041E-40E4-AE83-0155B850DF3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A8E5-8646-4ED3-AA87-E06058145768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4590-B70D-43C2-A5D3-064EE3C5277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92DB-B055-4015-933B-83CD978E5402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0F48-8E2F-4A55-9255-52A0E4DD3DE3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1F13-87EA-49B8-95DB-3A6A484BD7E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202A-D90F-4F4C-8F87-E2E3A7ABC018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F3BF-869E-4349-BF37-B9C486E013AA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E066-370F-407E-86AA-1D27DA82E49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1E04-E26D-4691-9928-D520DCBA431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CFFE-B1AE-4528-8F96-0306AB5341A0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9BD5-C357-4D42-A53C-258EEFDB739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28760" y="667548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43160" y="66754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71800" y="6675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4A13-CAD3-49B8-AB96-B25FBA21BFC8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8.png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8.png"/><Relationship Id="rId3" Type="http://schemas.openxmlformats.org/officeDocument/2006/relationships/image" Target="../media/image35.png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8.png"/><Relationship Id="rId3" Type="http://schemas.openxmlformats.org/officeDocument/2006/relationships/image" Target="../media/image38.wmf"/><Relationship Id="rId4" Type="http://schemas.openxmlformats.org/officeDocument/2006/relationships/image" Target="../media/image36.wmf"/><Relationship Id="rId5" Type="http://schemas.openxmlformats.org/officeDocument/2006/relationships/image" Target="../media/image40.wmf"/><Relationship Id="rId6" Type="http://schemas.openxmlformats.org/officeDocument/2006/relationships/image" Target="../media/image42.wmf"/><Relationship Id="rId7" Type="http://schemas.openxmlformats.org/officeDocument/2006/relationships/image" Target="../media/image43.wmf"/><Relationship Id="rId8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6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单圆角矩形 1"/>
          <p:cNvSpPr/>
          <p:nvPr/>
        </p:nvSpPr>
        <p:spPr>
          <a:xfrm>
            <a:off x="0" y="1882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0"/>
          <p:cNvSpPr/>
          <p:nvPr/>
        </p:nvSpPr>
        <p:spPr>
          <a:xfrm flipV="1">
            <a:off x="2251080" y="2561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5"/>
          <p:cNvSpPr/>
          <p:nvPr/>
        </p:nvSpPr>
        <p:spPr>
          <a:xfrm>
            <a:off x="249228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6"/>
          <p:cNvSpPr/>
          <p:nvPr/>
        </p:nvSpPr>
        <p:spPr>
          <a:xfrm>
            <a:off x="669960" y="3352680"/>
            <a:ext cx="745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约 分、通 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9"/>
          <p:cNvSpPr/>
          <p:nvPr/>
        </p:nvSpPr>
        <p:spPr>
          <a:xfrm>
            <a:off x="615600" y="1955880"/>
            <a:ext cx="268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分 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图片 5" descr=""/>
          <p:cNvPicPr/>
          <p:nvPr/>
        </p:nvPicPr>
        <p:blipFill>
          <a:blip r:embed="rId1"/>
          <a:stretch/>
        </p:blipFill>
        <p:spPr>
          <a:xfrm>
            <a:off x="2433600" y="770040"/>
            <a:ext cx="6577200" cy="131112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6" descr=""/>
          <p:cNvPicPr/>
          <p:nvPr/>
        </p:nvPicPr>
        <p:blipFill>
          <a:blip r:embed="rId2"/>
          <a:stretch/>
        </p:blipFill>
        <p:spPr>
          <a:xfrm>
            <a:off x="1403280" y="2824200"/>
            <a:ext cx="955800" cy="1316160"/>
          </a:xfrm>
          <a:prstGeom prst="rect">
            <a:avLst/>
          </a:prstGeom>
          <a:ln w="0">
            <a:noFill/>
          </a:ln>
        </p:spPr>
      </p:pic>
      <p:sp>
        <p:nvSpPr>
          <p:cNvPr id="1043" name="直接连接符 8"/>
          <p:cNvSpPr/>
          <p:nvPr/>
        </p:nvSpPr>
        <p:spPr>
          <a:xfrm>
            <a:off x="1584360" y="3629160"/>
            <a:ext cx="736560" cy="19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直接连接符 9"/>
          <p:cNvSpPr/>
          <p:nvPr/>
        </p:nvSpPr>
        <p:spPr>
          <a:xfrm>
            <a:off x="1584360" y="3059280"/>
            <a:ext cx="73656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图片 10" descr=""/>
          <p:cNvPicPr/>
          <p:nvPr/>
        </p:nvPicPr>
        <p:blipFill>
          <a:blip r:embed="rId3"/>
          <a:stretch/>
        </p:blipFill>
        <p:spPr>
          <a:xfrm>
            <a:off x="2112840" y="2690640"/>
            <a:ext cx="1300320" cy="1582920"/>
          </a:xfrm>
          <a:prstGeom prst="rect">
            <a:avLst/>
          </a:prstGeom>
          <a:ln w="0">
            <a:noFill/>
          </a:ln>
        </p:spPr>
      </p:pic>
      <p:sp>
        <p:nvSpPr>
          <p:cNvPr id="1046" name="文本框 11"/>
          <p:cNvSpPr/>
          <p:nvPr/>
        </p:nvSpPr>
        <p:spPr>
          <a:xfrm>
            <a:off x="1673280" y="3797280"/>
            <a:ext cx="42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文本框 12"/>
          <p:cNvSpPr/>
          <p:nvPr/>
        </p:nvSpPr>
        <p:spPr>
          <a:xfrm>
            <a:off x="1695600" y="24130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8" name="图片 13" descr=""/>
          <p:cNvPicPr/>
          <p:nvPr/>
        </p:nvPicPr>
        <p:blipFill>
          <a:blip r:embed="rId4"/>
          <a:stretch/>
        </p:blipFill>
        <p:spPr>
          <a:xfrm>
            <a:off x="3424320" y="2690640"/>
            <a:ext cx="1127160" cy="1662120"/>
          </a:xfrm>
          <a:prstGeom prst="rect">
            <a:avLst/>
          </a:prstGeom>
          <a:ln w="0">
            <a:noFill/>
          </a:ln>
        </p:spPr>
      </p:pic>
      <p:sp>
        <p:nvSpPr>
          <p:cNvPr id="1049" name="直接连接符 14"/>
          <p:cNvSpPr/>
          <p:nvPr/>
        </p:nvSpPr>
        <p:spPr>
          <a:xfrm>
            <a:off x="3651120" y="3727440"/>
            <a:ext cx="73512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15"/>
          <p:cNvSpPr/>
          <p:nvPr/>
        </p:nvSpPr>
        <p:spPr>
          <a:xfrm>
            <a:off x="3651120" y="3086280"/>
            <a:ext cx="735120" cy="19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文本框 16"/>
          <p:cNvSpPr/>
          <p:nvPr/>
        </p:nvSpPr>
        <p:spPr>
          <a:xfrm>
            <a:off x="3808440" y="399096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文本框 17"/>
          <p:cNvSpPr/>
          <p:nvPr/>
        </p:nvSpPr>
        <p:spPr>
          <a:xfrm>
            <a:off x="3770280" y="2360520"/>
            <a:ext cx="61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图片 18" descr=""/>
          <p:cNvPicPr/>
          <p:nvPr/>
        </p:nvPicPr>
        <p:blipFill>
          <a:blip r:embed="rId5"/>
          <a:stretch/>
        </p:blipFill>
        <p:spPr>
          <a:xfrm>
            <a:off x="4168800" y="2717640"/>
            <a:ext cx="1217520" cy="148140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19" descr=""/>
          <p:cNvPicPr/>
          <p:nvPr/>
        </p:nvPicPr>
        <p:blipFill>
          <a:blip r:embed="rId6"/>
          <a:stretch/>
        </p:blipFill>
        <p:spPr>
          <a:xfrm>
            <a:off x="5754600" y="2765520"/>
            <a:ext cx="1050840" cy="1447560"/>
          </a:xfrm>
          <a:prstGeom prst="rect">
            <a:avLst/>
          </a:prstGeom>
          <a:ln w="0">
            <a:noFill/>
          </a:ln>
        </p:spPr>
      </p:pic>
      <p:sp>
        <p:nvSpPr>
          <p:cNvPr id="1055" name="直接连接符 20"/>
          <p:cNvSpPr/>
          <p:nvPr/>
        </p:nvSpPr>
        <p:spPr>
          <a:xfrm>
            <a:off x="5905440" y="3662280"/>
            <a:ext cx="73512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直接连接符 21"/>
          <p:cNvSpPr/>
          <p:nvPr/>
        </p:nvSpPr>
        <p:spPr>
          <a:xfrm>
            <a:off x="5905440" y="3022560"/>
            <a:ext cx="73512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文本框 22"/>
          <p:cNvSpPr/>
          <p:nvPr/>
        </p:nvSpPr>
        <p:spPr>
          <a:xfrm>
            <a:off x="6127920" y="393228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文本框 23"/>
          <p:cNvSpPr/>
          <p:nvPr/>
        </p:nvSpPr>
        <p:spPr>
          <a:xfrm>
            <a:off x="6089760" y="230184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图片 25" descr=""/>
          <p:cNvPicPr/>
          <p:nvPr/>
        </p:nvPicPr>
        <p:blipFill>
          <a:blip r:embed="rId7"/>
          <a:stretch/>
        </p:blipFill>
        <p:spPr>
          <a:xfrm>
            <a:off x="6513480" y="2690640"/>
            <a:ext cx="1254240" cy="1508400"/>
          </a:xfrm>
          <a:prstGeom prst="rect">
            <a:avLst/>
          </a:prstGeom>
          <a:ln w="0">
            <a:noFill/>
          </a:ln>
        </p:spPr>
      </p:pic>
      <p:sp>
        <p:nvSpPr>
          <p:cNvPr id="1060" name="TextBox 11"/>
          <p:cNvSpPr/>
          <p:nvPr/>
        </p:nvSpPr>
        <p:spPr>
          <a:xfrm>
            <a:off x="196920" y="319896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2" descr=""/>
          <p:cNvPicPr/>
          <p:nvPr/>
        </p:nvPicPr>
        <p:blipFill>
          <a:blip r:embed="rId1"/>
          <a:stretch/>
        </p:blipFill>
        <p:spPr>
          <a:xfrm>
            <a:off x="7093080" y="836640"/>
            <a:ext cx="1439640" cy="91584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3" descr=""/>
          <p:cNvPicPr/>
          <p:nvPr/>
        </p:nvPicPr>
        <p:blipFill>
          <a:blip r:embed="rId2"/>
          <a:stretch/>
        </p:blipFill>
        <p:spPr>
          <a:xfrm>
            <a:off x="647640" y="1778040"/>
            <a:ext cx="7489800" cy="3300480"/>
          </a:xfrm>
          <a:prstGeom prst="rect">
            <a:avLst/>
          </a:prstGeom>
          <a:ln w="0">
            <a:noFill/>
          </a:ln>
        </p:spPr>
      </p:pic>
      <p:sp>
        <p:nvSpPr>
          <p:cNvPr id="1063" name="同侧圆角矩形 5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任意多边形 7"/>
          <p:cNvSpPr/>
          <p:nvPr/>
        </p:nvSpPr>
        <p:spPr>
          <a:xfrm>
            <a:off x="647640" y="1515960"/>
            <a:ext cx="7424640" cy="1582920"/>
          </a:xfrm>
          <a:custGeom>
            <a:avLst/>
            <a:gdLst/>
            <a:ahLst/>
            <a:rect l="l" t="t" r="r" b="b"/>
            <a:pathLst>
              <a:path w="7425055" h="1583055">
                <a:moveTo>
                  <a:pt x="408940" y="356235"/>
                </a:moveTo>
                <a:lnTo>
                  <a:pt x="514350" y="330200"/>
                </a:lnTo>
                <a:lnTo>
                  <a:pt x="580390" y="316865"/>
                </a:lnTo>
                <a:lnTo>
                  <a:pt x="711835" y="290195"/>
                </a:lnTo>
                <a:lnTo>
                  <a:pt x="791210" y="276860"/>
                </a:lnTo>
                <a:lnTo>
                  <a:pt x="883285" y="250825"/>
                </a:lnTo>
                <a:lnTo>
                  <a:pt x="962660" y="250825"/>
                </a:lnTo>
                <a:lnTo>
                  <a:pt x="1042035" y="250825"/>
                </a:lnTo>
                <a:lnTo>
                  <a:pt x="1134110" y="250825"/>
                </a:lnTo>
                <a:lnTo>
                  <a:pt x="1252855" y="250825"/>
                </a:lnTo>
                <a:lnTo>
                  <a:pt x="1371600" y="250825"/>
                </a:lnTo>
                <a:lnTo>
                  <a:pt x="1477010" y="250825"/>
                </a:lnTo>
                <a:lnTo>
                  <a:pt x="1569085" y="237490"/>
                </a:lnTo>
                <a:lnTo>
                  <a:pt x="1648460" y="224155"/>
                </a:lnTo>
                <a:lnTo>
                  <a:pt x="1740535" y="211455"/>
                </a:lnTo>
                <a:lnTo>
                  <a:pt x="1845945" y="211455"/>
                </a:lnTo>
                <a:lnTo>
                  <a:pt x="1925320" y="211455"/>
                </a:lnTo>
                <a:lnTo>
                  <a:pt x="2030730" y="211455"/>
                </a:lnTo>
                <a:lnTo>
                  <a:pt x="2123440" y="211455"/>
                </a:lnTo>
                <a:lnTo>
                  <a:pt x="2242185" y="211455"/>
                </a:lnTo>
                <a:lnTo>
                  <a:pt x="2320925" y="211455"/>
                </a:lnTo>
                <a:lnTo>
                  <a:pt x="2400300" y="211455"/>
                </a:lnTo>
                <a:lnTo>
                  <a:pt x="2505710" y="198120"/>
                </a:lnTo>
                <a:lnTo>
                  <a:pt x="2585085" y="184785"/>
                </a:lnTo>
                <a:lnTo>
                  <a:pt x="2663825" y="184785"/>
                </a:lnTo>
                <a:lnTo>
                  <a:pt x="2729865" y="184785"/>
                </a:lnTo>
                <a:lnTo>
                  <a:pt x="2795905" y="184785"/>
                </a:lnTo>
                <a:lnTo>
                  <a:pt x="2861945" y="184785"/>
                </a:lnTo>
                <a:lnTo>
                  <a:pt x="2954020" y="158750"/>
                </a:lnTo>
                <a:lnTo>
                  <a:pt x="3020060" y="145415"/>
                </a:lnTo>
                <a:lnTo>
                  <a:pt x="3086100" y="132080"/>
                </a:lnTo>
                <a:lnTo>
                  <a:pt x="3164840" y="118745"/>
                </a:lnTo>
                <a:lnTo>
                  <a:pt x="3230880" y="105410"/>
                </a:lnTo>
                <a:lnTo>
                  <a:pt x="3296920" y="92710"/>
                </a:lnTo>
                <a:lnTo>
                  <a:pt x="3362960" y="92710"/>
                </a:lnTo>
                <a:lnTo>
                  <a:pt x="3442335" y="79375"/>
                </a:lnTo>
                <a:lnTo>
                  <a:pt x="3507740" y="52705"/>
                </a:lnTo>
                <a:lnTo>
                  <a:pt x="3626485" y="26670"/>
                </a:lnTo>
                <a:lnTo>
                  <a:pt x="3705860" y="26670"/>
                </a:lnTo>
                <a:lnTo>
                  <a:pt x="3771900" y="26670"/>
                </a:lnTo>
                <a:lnTo>
                  <a:pt x="3837940" y="26670"/>
                </a:lnTo>
                <a:lnTo>
                  <a:pt x="3903345" y="26670"/>
                </a:lnTo>
                <a:lnTo>
                  <a:pt x="3996055" y="0"/>
                </a:lnTo>
                <a:lnTo>
                  <a:pt x="4128135" y="0"/>
                </a:lnTo>
                <a:lnTo>
                  <a:pt x="4246245" y="0"/>
                </a:lnTo>
                <a:lnTo>
                  <a:pt x="4391660" y="0"/>
                </a:lnTo>
                <a:lnTo>
                  <a:pt x="4549775" y="0"/>
                </a:lnTo>
                <a:lnTo>
                  <a:pt x="4734560" y="0"/>
                </a:lnTo>
                <a:lnTo>
                  <a:pt x="4906010" y="0"/>
                </a:lnTo>
                <a:lnTo>
                  <a:pt x="5090795" y="0"/>
                </a:lnTo>
                <a:lnTo>
                  <a:pt x="5262245" y="0"/>
                </a:lnTo>
                <a:lnTo>
                  <a:pt x="5446395" y="0"/>
                </a:lnTo>
                <a:lnTo>
                  <a:pt x="5605145" y="0"/>
                </a:lnTo>
                <a:lnTo>
                  <a:pt x="5710555" y="0"/>
                </a:lnTo>
                <a:lnTo>
                  <a:pt x="5802630" y="0"/>
                </a:lnTo>
                <a:lnTo>
                  <a:pt x="5882005" y="0"/>
                </a:lnTo>
                <a:lnTo>
                  <a:pt x="5974080" y="0"/>
                </a:lnTo>
                <a:lnTo>
                  <a:pt x="6040120" y="0"/>
                </a:lnTo>
                <a:lnTo>
                  <a:pt x="6106160" y="0"/>
                </a:lnTo>
                <a:lnTo>
                  <a:pt x="6172200" y="0"/>
                </a:lnTo>
                <a:lnTo>
                  <a:pt x="6264275" y="26670"/>
                </a:lnTo>
                <a:lnTo>
                  <a:pt x="6343650" y="40005"/>
                </a:lnTo>
                <a:lnTo>
                  <a:pt x="6409690" y="52705"/>
                </a:lnTo>
                <a:lnTo>
                  <a:pt x="6475095" y="79375"/>
                </a:lnTo>
                <a:lnTo>
                  <a:pt x="6541135" y="118745"/>
                </a:lnTo>
                <a:lnTo>
                  <a:pt x="6607175" y="158750"/>
                </a:lnTo>
                <a:lnTo>
                  <a:pt x="6673215" y="184785"/>
                </a:lnTo>
                <a:lnTo>
                  <a:pt x="6739255" y="211455"/>
                </a:lnTo>
                <a:lnTo>
                  <a:pt x="6805295" y="224155"/>
                </a:lnTo>
                <a:lnTo>
                  <a:pt x="6871335" y="237490"/>
                </a:lnTo>
                <a:lnTo>
                  <a:pt x="6936740" y="250825"/>
                </a:lnTo>
                <a:lnTo>
                  <a:pt x="7002780" y="276860"/>
                </a:lnTo>
                <a:lnTo>
                  <a:pt x="7068820" y="303530"/>
                </a:lnTo>
                <a:lnTo>
                  <a:pt x="7134860" y="330200"/>
                </a:lnTo>
                <a:lnTo>
                  <a:pt x="7200900" y="342900"/>
                </a:lnTo>
                <a:lnTo>
                  <a:pt x="7266940" y="356235"/>
                </a:lnTo>
                <a:lnTo>
                  <a:pt x="7332345" y="408940"/>
                </a:lnTo>
                <a:lnTo>
                  <a:pt x="7385685" y="488315"/>
                </a:lnTo>
                <a:lnTo>
                  <a:pt x="7425055" y="554355"/>
                </a:lnTo>
                <a:lnTo>
                  <a:pt x="7425055" y="633095"/>
                </a:lnTo>
                <a:lnTo>
                  <a:pt x="7425055" y="712470"/>
                </a:lnTo>
                <a:lnTo>
                  <a:pt x="7411720" y="791210"/>
                </a:lnTo>
                <a:lnTo>
                  <a:pt x="7345680" y="817880"/>
                </a:lnTo>
                <a:lnTo>
                  <a:pt x="7266940" y="831215"/>
                </a:lnTo>
                <a:lnTo>
                  <a:pt x="7200900" y="857250"/>
                </a:lnTo>
                <a:lnTo>
                  <a:pt x="7134860" y="897255"/>
                </a:lnTo>
                <a:lnTo>
                  <a:pt x="7068820" y="897255"/>
                </a:lnTo>
                <a:lnTo>
                  <a:pt x="7002780" y="897255"/>
                </a:lnTo>
                <a:lnTo>
                  <a:pt x="6910705" y="897255"/>
                </a:lnTo>
                <a:lnTo>
                  <a:pt x="6844665" y="897255"/>
                </a:lnTo>
                <a:lnTo>
                  <a:pt x="6765290" y="897255"/>
                </a:lnTo>
                <a:lnTo>
                  <a:pt x="6699885" y="897255"/>
                </a:lnTo>
                <a:lnTo>
                  <a:pt x="6581140" y="897255"/>
                </a:lnTo>
                <a:lnTo>
                  <a:pt x="6475095" y="897255"/>
                </a:lnTo>
                <a:lnTo>
                  <a:pt x="6369685" y="897255"/>
                </a:lnTo>
                <a:lnTo>
                  <a:pt x="6277610" y="897255"/>
                </a:lnTo>
                <a:lnTo>
                  <a:pt x="6211570" y="897255"/>
                </a:lnTo>
                <a:lnTo>
                  <a:pt x="6132195" y="897255"/>
                </a:lnTo>
                <a:lnTo>
                  <a:pt x="6066790" y="897255"/>
                </a:lnTo>
                <a:lnTo>
                  <a:pt x="5987415" y="897255"/>
                </a:lnTo>
                <a:lnTo>
                  <a:pt x="5908040" y="883920"/>
                </a:lnTo>
                <a:lnTo>
                  <a:pt x="5829300" y="883920"/>
                </a:lnTo>
                <a:lnTo>
                  <a:pt x="5763260" y="883920"/>
                </a:lnTo>
                <a:lnTo>
                  <a:pt x="5683885" y="870585"/>
                </a:lnTo>
                <a:lnTo>
                  <a:pt x="5617845" y="844550"/>
                </a:lnTo>
                <a:lnTo>
                  <a:pt x="5552440" y="844550"/>
                </a:lnTo>
                <a:lnTo>
                  <a:pt x="5473065" y="831215"/>
                </a:lnTo>
                <a:lnTo>
                  <a:pt x="5407025" y="804545"/>
                </a:lnTo>
                <a:lnTo>
                  <a:pt x="5340985" y="804545"/>
                </a:lnTo>
                <a:lnTo>
                  <a:pt x="5274945" y="804545"/>
                </a:lnTo>
                <a:lnTo>
                  <a:pt x="5196205" y="804545"/>
                </a:lnTo>
                <a:lnTo>
                  <a:pt x="5130165" y="804545"/>
                </a:lnTo>
                <a:lnTo>
                  <a:pt x="5064125" y="804545"/>
                </a:lnTo>
                <a:lnTo>
                  <a:pt x="4985385" y="804545"/>
                </a:lnTo>
                <a:lnTo>
                  <a:pt x="4906010" y="804545"/>
                </a:lnTo>
                <a:lnTo>
                  <a:pt x="4839970" y="804545"/>
                </a:lnTo>
                <a:lnTo>
                  <a:pt x="4773930" y="804545"/>
                </a:lnTo>
                <a:lnTo>
                  <a:pt x="4707890" y="817880"/>
                </a:lnTo>
                <a:lnTo>
                  <a:pt x="4642485" y="831215"/>
                </a:lnTo>
                <a:lnTo>
                  <a:pt x="4576445" y="870585"/>
                </a:lnTo>
                <a:lnTo>
                  <a:pt x="4510405" y="897255"/>
                </a:lnTo>
                <a:lnTo>
                  <a:pt x="4444365" y="923290"/>
                </a:lnTo>
                <a:lnTo>
                  <a:pt x="4364990" y="949960"/>
                </a:lnTo>
                <a:lnTo>
                  <a:pt x="4299585" y="975995"/>
                </a:lnTo>
                <a:lnTo>
                  <a:pt x="4233545" y="1028700"/>
                </a:lnTo>
                <a:lnTo>
                  <a:pt x="4180840" y="1094740"/>
                </a:lnTo>
                <a:lnTo>
                  <a:pt x="4180840" y="1160780"/>
                </a:lnTo>
                <a:lnTo>
                  <a:pt x="4180840" y="1226820"/>
                </a:lnTo>
                <a:lnTo>
                  <a:pt x="4167505" y="1292860"/>
                </a:lnTo>
                <a:lnTo>
                  <a:pt x="4140835" y="1358900"/>
                </a:lnTo>
                <a:lnTo>
                  <a:pt x="4114800" y="1424305"/>
                </a:lnTo>
                <a:lnTo>
                  <a:pt x="4088130" y="1490345"/>
                </a:lnTo>
                <a:lnTo>
                  <a:pt x="4022090" y="1556385"/>
                </a:lnTo>
                <a:lnTo>
                  <a:pt x="3956685" y="1569720"/>
                </a:lnTo>
                <a:lnTo>
                  <a:pt x="3890645" y="1583055"/>
                </a:lnTo>
                <a:lnTo>
                  <a:pt x="3824605" y="1583055"/>
                </a:lnTo>
                <a:lnTo>
                  <a:pt x="3745230" y="1583055"/>
                </a:lnTo>
                <a:lnTo>
                  <a:pt x="3679190" y="1569720"/>
                </a:lnTo>
                <a:lnTo>
                  <a:pt x="3587115" y="1556385"/>
                </a:lnTo>
                <a:lnTo>
                  <a:pt x="3507740" y="1556385"/>
                </a:lnTo>
                <a:lnTo>
                  <a:pt x="3442335" y="1556385"/>
                </a:lnTo>
                <a:lnTo>
                  <a:pt x="3362960" y="1517015"/>
                </a:lnTo>
                <a:lnTo>
                  <a:pt x="3270885" y="1517015"/>
                </a:lnTo>
                <a:lnTo>
                  <a:pt x="3164840" y="1490345"/>
                </a:lnTo>
                <a:lnTo>
                  <a:pt x="3072765" y="1477010"/>
                </a:lnTo>
                <a:lnTo>
                  <a:pt x="2967355" y="1477010"/>
                </a:lnTo>
                <a:lnTo>
                  <a:pt x="2861945" y="1477010"/>
                </a:lnTo>
                <a:lnTo>
                  <a:pt x="2729865" y="1464310"/>
                </a:lnTo>
                <a:lnTo>
                  <a:pt x="2637790" y="1450975"/>
                </a:lnTo>
                <a:lnTo>
                  <a:pt x="2558415" y="1437640"/>
                </a:lnTo>
                <a:lnTo>
                  <a:pt x="2492375" y="1424305"/>
                </a:lnTo>
                <a:lnTo>
                  <a:pt x="2426335" y="1424305"/>
                </a:lnTo>
                <a:lnTo>
                  <a:pt x="2360295" y="1424305"/>
                </a:lnTo>
                <a:lnTo>
                  <a:pt x="2294890" y="1424305"/>
                </a:lnTo>
                <a:lnTo>
                  <a:pt x="2228850" y="1424305"/>
                </a:lnTo>
                <a:lnTo>
                  <a:pt x="2149475" y="1424305"/>
                </a:lnTo>
                <a:lnTo>
                  <a:pt x="2070735" y="1411605"/>
                </a:lnTo>
                <a:lnTo>
                  <a:pt x="2004695" y="1411605"/>
                </a:lnTo>
                <a:lnTo>
                  <a:pt x="1925320" y="1411605"/>
                </a:lnTo>
                <a:lnTo>
                  <a:pt x="1859280" y="1411605"/>
                </a:lnTo>
                <a:lnTo>
                  <a:pt x="1793240" y="1411605"/>
                </a:lnTo>
                <a:lnTo>
                  <a:pt x="1714500" y="1411605"/>
                </a:lnTo>
                <a:lnTo>
                  <a:pt x="1635125" y="1411605"/>
                </a:lnTo>
                <a:lnTo>
                  <a:pt x="1543050" y="1411605"/>
                </a:lnTo>
                <a:lnTo>
                  <a:pt x="1463675" y="1411605"/>
                </a:lnTo>
                <a:lnTo>
                  <a:pt x="1397635" y="1411605"/>
                </a:lnTo>
                <a:lnTo>
                  <a:pt x="1318895" y="1411605"/>
                </a:lnTo>
                <a:lnTo>
                  <a:pt x="1252855" y="1411605"/>
                </a:lnTo>
                <a:lnTo>
                  <a:pt x="1186815" y="1411605"/>
                </a:lnTo>
                <a:lnTo>
                  <a:pt x="1120775" y="1411605"/>
                </a:lnTo>
                <a:lnTo>
                  <a:pt x="1054735" y="1411605"/>
                </a:lnTo>
                <a:lnTo>
                  <a:pt x="988695" y="1411605"/>
                </a:lnTo>
                <a:lnTo>
                  <a:pt x="923290" y="1411605"/>
                </a:lnTo>
                <a:lnTo>
                  <a:pt x="843915" y="1411605"/>
                </a:lnTo>
                <a:lnTo>
                  <a:pt x="777875" y="1411605"/>
                </a:lnTo>
                <a:lnTo>
                  <a:pt x="711835" y="1411605"/>
                </a:lnTo>
                <a:lnTo>
                  <a:pt x="645795" y="1411605"/>
                </a:lnTo>
                <a:lnTo>
                  <a:pt x="553720" y="1424305"/>
                </a:lnTo>
                <a:lnTo>
                  <a:pt x="487680" y="1424305"/>
                </a:lnTo>
                <a:lnTo>
                  <a:pt x="421640" y="1424305"/>
                </a:lnTo>
                <a:lnTo>
                  <a:pt x="356235" y="1424305"/>
                </a:lnTo>
                <a:lnTo>
                  <a:pt x="290195" y="1424305"/>
                </a:lnTo>
                <a:lnTo>
                  <a:pt x="224155" y="1411605"/>
                </a:lnTo>
                <a:lnTo>
                  <a:pt x="158115" y="1398270"/>
                </a:lnTo>
                <a:lnTo>
                  <a:pt x="92075" y="1358900"/>
                </a:lnTo>
                <a:lnTo>
                  <a:pt x="39370" y="1292860"/>
                </a:lnTo>
                <a:lnTo>
                  <a:pt x="13335" y="1226820"/>
                </a:lnTo>
                <a:lnTo>
                  <a:pt x="0" y="1160780"/>
                </a:lnTo>
                <a:lnTo>
                  <a:pt x="0" y="1081405"/>
                </a:lnTo>
                <a:lnTo>
                  <a:pt x="0" y="1016000"/>
                </a:lnTo>
                <a:lnTo>
                  <a:pt x="0" y="949960"/>
                </a:lnTo>
                <a:lnTo>
                  <a:pt x="39370" y="883920"/>
                </a:lnTo>
                <a:lnTo>
                  <a:pt x="78740" y="804545"/>
                </a:lnTo>
                <a:lnTo>
                  <a:pt x="131445" y="738505"/>
                </a:lnTo>
                <a:lnTo>
                  <a:pt x="197485" y="685800"/>
                </a:lnTo>
                <a:lnTo>
                  <a:pt x="263525" y="646430"/>
                </a:lnTo>
                <a:lnTo>
                  <a:pt x="329565" y="607060"/>
                </a:lnTo>
                <a:lnTo>
                  <a:pt x="395605" y="448310"/>
                </a:lnTo>
                <a:lnTo>
                  <a:pt x="461645" y="435610"/>
                </a:lnTo>
                <a:lnTo>
                  <a:pt x="408940" y="3562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8"/>
          <p:cNvSpPr/>
          <p:nvPr/>
        </p:nvSpPr>
        <p:spPr>
          <a:xfrm>
            <a:off x="2514600" y="3814920"/>
            <a:ext cx="504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圆角矩形标注 9"/>
          <p:cNvSpPr/>
          <p:nvPr/>
        </p:nvSpPr>
        <p:spPr>
          <a:xfrm>
            <a:off x="4879800" y="2630520"/>
            <a:ext cx="2008440" cy="1341360"/>
          </a:xfrm>
          <a:prstGeom prst="wedgeRoundRectCallout">
            <a:avLst>
              <a:gd name="adj1" fmla="val 58523"/>
              <a:gd name="adj2" fmla="val 31615"/>
              <a:gd name="adj3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10"/>
          <p:cNvSpPr/>
          <p:nvPr/>
        </p:nvSpPr>
        <p:spPr>
          <a:xfrm>
            <a:off x="3922920" y="1655640"/>
            <a:ext cx="140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同学任意写出一个分数，另一个同学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分数是不是最简分数，并说明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9" name="对象 11"/>
              <p:cNvSpPr txBox="1"/>
              <p:nvPr/>
            </p:nvSpPr>
            <p:spPr>
              <a:xfrm>
                <a:off x="2595600" y="3836880"/>
                <a:ext cx="342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0" name="文本框 12"/>
          <p:cNvSpPr/>
          <p:nvPr/>
        </p:nvSpPr>
        <p:spPr>
          <a:xfrm>
            <a:off x="4776840" y="2752560"/>
            <a:ext cx="221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是最近简分数，它的分子、分母有公因数</a:t>
            </a:r>
            <a:r>
              <a:rPr b="0" lang="en-US" sz="2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文本框 13"/>
          <p:cNvSpPr/>
          <p:nvPr/>
        </p:nvSpPr>
        <p:spPr>
          <a:xfrm>
            <a:off x="4364280" y="4944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案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2530440" y="2133720"/>
            <a:ext cx="4540320" cy="3232080"/>
          </a:xfrm>
          <a:prstGeom prst="rect">
            <a:avLst/>
          </a:prstGeom>
          <a:ln w="0">
            <a:noFill/>
          </a:ln>
        </p:spPr>
      </p:pic>
      <p:sp>
        <p:nvSpPr>
          <p:cNvPr id="1073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2" descr=""/>
          <p:cNvPicPr/>
          <p:nvPr/>
        </p:nvPicPr>
        <p:blipFill>
          <a:blip r:embed="rId2"/>
          <a:stretch/>
        </p:blipFill>
        <p:spPr>
          <a:xfrm>
            <a:off x="674640" y="5013360"/>
            <a:ext cx="1657440" cy="1177920"/>
          </a:xfrm>
          <a:prstGeom prst="rect">
            <a:avLst/>
          </a:prstGeom>
          <a:ln w="0">
            <a:noFill/>
          </a:ln>
        </p:spPr>
      </p:pic>
      <p:sp>
        <p:nvSpPr>
          <p:cNvPr id="1076" name="圆角矩形标注 7"/>
          <p:cNvSpPr/>
          <p:nvPr/>
        </p:nvSpPr>
        <p:spPr>
          <a:xfrm>
            <a:off x="2552760" y="5033880"/>
            <a:ext cx="5143320" cy="811440"/>
          </a:xfrm>
          <a:prstGeom prst="wedgeRoundRectCallout">
            <a:avLst>
              <a:gd name="adj1" fmla="val -59162"/>
              <a:gd name="adj2" fmla="val 20462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圆角矩形标注 9"/>
          <p:cNvSpPr/>
          <p:nvPr/>
        </p:nvSpPr>
        <p:spPr>
          <a:xfrm>
            <a:off x="4818240" y="1366920"/>
            <a:ext cx="3438360" cy="766800"/>
          </a:xfrm>
          <a:prstGeom prst="wedgeRoundRectCallout">
            <a:avLst>
              <a:gd name="adj1" fmla="val -32611"/>
              <a:gd name="adj2" fmla="val 86597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圆角矩形标注 14"/>
          <p:cNvSpPr/>
          <p:nvPr/>
        </p:nvSpPr>
        <p:spPr>
          <a:xfrm>
            <a:off x="250920" y="1662120"/>
            <a:ext cx="3313080" cy="878040"/>
          </a:xfrm>
          <a:prstGeom prst="wedgeRoundRectCallout">
            <a:avLst>
              <a:gd name="adj1" fmla="val 51740"/>
              <a:gd name="adj2" fmla="val 82787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图片 8" descr=""/>
          <p:cNvPicPr/>
          <p:nvPr/>
        </p:nvPicPr>
        <p:blipFill>
          <a:blip r:embed="rId3"/>
          <a:stretch/>
        </p:blipFill>
        <p:spPr>
          <a:xfrm>
            <a:off x="182520" y="1585800"/>
            <a:ext cx="3597480" cy="99864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11" descr=""/>
          <p:cNvPicPr/>
          <p:nvPr/>
        </p:nvPicPr>
        <p:blipFill>
          <a:blip r:embed="rId4"/>
          <a:stretch/>
        </p:blipFill>
        <p:spPr>
          <a:xfrm>
            <a:off x="4746600" y="1251000"/>
            <a:ext cx="3693960" cy="998640"/>
          </a:xfrm>
          <a:prstGeom prst="rect">
            <a:avLst/>
          </a:prstGeom>
          <a:ln w="0">
            <a:noFill/>
          </a:ln>
        </p:spPr>
      </p:pic>
      <p:sp>
        <p:nvSpPr>
          <p:cNvPr id="1081" name="文本框 24"/>
          <p:cNvSpPr/>
          <p:nvPr/>
        </p:nvSpPr>
        <p:spPr>
          <a:xfrm>
            <a:off x="4937760" y="5145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个工人检验得快一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12" descr=""/>
          <p:cNvPicPr/>
          <p:nvPr/>
        </p:nvPicPr>
        <p:blipFill>
          <a:blip r:embed="rId1"/>
          <a:stretch/>
        </p:blipFill>
        <p:spPr>
          <a:xfrm>
            <a:off x="1041480" y="3745080"/>
            <a:ext cx="1133280" cy="1601640"/>
          </a:xfrm>
          <a:prstGeom prst="rect">
            <a:avLst/>
          </a:prstGeom>
          <a:ln w="0">
            <a:noFill/>
          </a:ln>
        </p:spPr>
      </p:pic>
      <p:sp>
        <p:nvSpPr>
          <p:cNvPr id="1083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5" name="Picture 2" descr=""/>
          <p:cNvPicPr/>
          <p:nvPr/>
        </p:nvPicPr>
        <p:blipFill>
          <a:blip r:embed="rId2"/>
          <a:stretch/>
        </p:blipFill>
        <p:spPr>
          <a:xfrm>
            <a:off x="674640" y="5013360"/>
            <a:ext cx="1657440" cy="1177920"/>
          </a:xfrm>
          <a:prstGeom prst="rect">
            <a:avLst/>
          </a:prstGeom>
          <a:ln w="0">
            <a:noFill/>
          </a:ln>
        </p:spPr>
      </p:pic>
      <p:sp>
        <p:nvSpPr>
          <p:cNvPr id="1086" name="圆角矩形标注 9"/>
          <p:cNvSpPr/>
          <p:nvPr/>
        </p:nvSpPr>
        <p:spPr>
          <a:xfrm>
            <a:off x="2171880" y="2870280"/>
            <a:ext cx="2184120" cy="1428840"/>
          </a:xfrm>
          <a:prstGeom prst="wedgeRoundRectCallout">
            <a:avLst>
              <a:gd name="adj1" fmla="val -68199"/>
              <a:gd name="adj2" fmla="val 45115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圆角矩形标注 14"/>
          <p:cNvSpPr/>
          <p:nvPr/>
        </p:nvSpPr>
        <p:spPr>
          <a:xfrm>
            <a:off x="674640" y="1765440"/>
            <a:ext cx="3176640" cy="992160"/>
          </a:xfrm>
          <a:prstGeom prst="wedgeRoundRectCallout">
            <a:avLst>
              <a:gd name="adj1" fmla="val -35611"/>
              <a:gd name="adj2" fmla="val 62564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组合 3"/>
          <p:cNvGrpSpPr/>
          <p:nvPr/>
        </p:nvGrpSpPr>
        <p:grpSpPr>
          <a:xfrm>
            <a:off x="2552760" y="5033880"/>
            <a:ext cx="4251600" cy="811440"/>
            <a:chOff x="2552760" y="5033880"/>
            <a:chExt cx="4251600" cy="811440"/>
          </a:xfrm>
        </p:grpSpPr>
        <p:sp>
          <p:nvSpPr>
            <p:cNvPr id="1089" name="圆角矩形标注 7"/>
            <p:cNvSpPr/>
            <p:nvPr/>
          </p:nvSpPr>
          <p:spPr>
            <a:xfrm>
              <a:off x="2552760" y="5033880"/>
              <a:ext cx="4251600" cy="811440"/>
            </a:xfrm>
            <a:prstGeom prst="wedgeRoundRectCallout">
              <a:avLst>
                <a:gd name="adj1" fmla="val -59162"/>
                <a:gd name="adj2" fmla="val 20462"/>
                <a:gd name="adj3" fmla="val 16667"/>
              </a:avLst>
            </a:prstGeom>
            <a:solidFill>
              <a:srgbClr val="f1f9f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文本框 24"/>
            <p:cNvSpPr/>
            <p:nvPr/>
          </p:nvSpPr>
          <p:spPr>
            <a:xfrm>
              <a:off x="4257360" y="5144400"/>
              <a:ext cx="108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叔叔检验得快一些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1" name="图片 3" descr=""/>
          <p:cNvPicPr/>
          <p:nvPr/>
        </p:nvPicPr>
        <p:blipFill>
          <a:blip r:embed="rId3"/>
          <a:stretch/>
        </p:blipFill>
        <p:spPr>
          <a:xfrm>
            <a:off x="534960" y="2844720"/>
            <a:ext cx="828720" cy="1168560"/>
          </a:xfrm>
          <a:prstGeom prst="rect">
            <a:avLst/>
          </a:prstGeom>
          <a:ln w="0">
            <a:noFill/>
          </a:ln>
        </p:spPr>
      </p:pic>
      <p:sp>
        <p:nvSpPr>
          <p:cNvPr id="1092" name="文本框 13"/>
          <p:cNvSpPr/>
          <p:nvPr/>
        </p:nvSpPr>
        <p:spPr>
          <a:xfrm>
            <a:off x="1260360" y="176544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化成分母相同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数再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15"/>
          <p:cNvSpPr/>
          <p:nvPr/>
        </p:nvSpPr>
        <p:spPr>
          <a:xfrm>
            <a:off x="2270880" y="2793960"/>
            <a:ext cx="201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倍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公分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组合 1"/>
          <p:cNvGrpSpPr/>
          <p:nvPr/>
        </p:nvGrpSpPr>
        <p:grpSpPr>
          <a:xfrm>
            <a:off x="4245120" y="1243080"/>
            <a:ext cx="3365280" cy="1674720"/>
            <a:chOff x="4245120" y="1243080"/>
            <a:chExt cx="3365280" cy="1674720"/>
          </a:xfrm>
        </p:grpSpPr>
        <p:pic>
          <p:nvPicPr>
            <p:cNvPr id="1095" name="图片 10" descr=""/>
            <p:cNvPicPr/>
            <p:nvPr/>
          </p:nvPicPr>
          <p:blipFill>
            <a:blip r:embed="rId4"/>
            <a:stretch/>
          </p:blipFill>
          <p:spPr>
            <a:xfrm>
              <a:off x="4245120" y="1243080"/>
              <a:ext cx="896760" cy="16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图片 16" descr=""/>
            <p:cNvPicPr/>
            <p:nvPr/>
          </p:nvPicPr>
          <p:blipFill>
            <a:blip r:embed="rId5"/>
            <a:stretch/>
          </p:blipFill>
          <p:spPr>
            <a:xfrm>
              <a:off x="4748040" y="1400400"/>
              <a:ext cx="2862360" cy="13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7" name="组合 2"/>
          <p:cNvGrpSpPr/>
          <p:nvPr/>
        </p:nvGrpSpPr>
        <p:grpSpPr>
          <a:xfrm>
            <a:off x="4237200" y="2678040"/>
            <a:ext cx="3315960" cy="1685880"/>
            <a:chOff x="4237200" y="2678040"/>
            <a:chExt cx="3315960" cy="1685880"/>
          </a:xfrm>
        </p:grpSpPr>
        <p:pic>
          <p:nvPicPr>
            <p:cNvPr id="1098" name="图片 6" descr=""/>
            <p:cNvPicPr/>
            <p:nvPr/>
          </p:nvPicPr>
          <p:blipFill>
            <a:blip r:embed="rId6"/>
            <a:stretch/>
          </p:blipFill>
          <p:spPr>
            <a:xfrm>
              <a:off x="4237200" y="2678040"/>
              <a:ext cx="91872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图片 17" descr=""/>
            <p:cNvPicPr/>
            <p:nvPr/>
          </p:nvPicPr>
          <p:blipFill>
            <a:blip r:embed="rId7"/>
            <a:stretch/>
          </p:blipFill>
          <p:spPr>
            <a:xfrm>
              <a:off x="4712040" y="2819520"/>
              <a:ext cx="2841120" cy="134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0" name="图片 18" descr=""/>
          <p:cNvPicPr/>
          <p:nvPr/>
        </p:nvPicPr>
        <p:blipFill>
          <a:blip r:embed="rId8"/>
          <a:stretch/>
        </p:blipFill>
        <p:spPr>
          <a:xfrm>
            <a:off x="4646520" y="3789360"/>
            <a:ext cx="16416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图片 12" descr=""/>
          <p:cNvPicPr/>
          <p:nvPr/>
        </p:nvPicPr>
        <p:blipFill>
          <a:blip r:embed="rId1"/>
          <a:stretch/>
        </p:blipFill>
        <p:spPr>
          <a:xfrm>
            <a:off x="7335720" y="3103560"/>
            <a:ext cx="1173240" cy="1784520"/>
          </a:xfrm>
          <a:prstGeom prst="rect">
            <a:avLst/>
          </a:prstGeom>
          <a:ln w="0">
            <a:noFill/>
          </a:ln>
        </p:spPr>
      </p:pic>
      <p:sp>
        <p:nvSpPr>
          <p:cNvPr id="1102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2" descr=""/>
          <p:cNvPicPr/>
          <p:nvPr/>
        </p:nvPicPr>
        <p:blipFill>
          <a:blip r:embed="rId2"/>
          <a:stretch/>
        </p:blipFill>
        <p:spPr>
          <a:xfrm>
            <a:off x="674640" y="5013360"/>
            <a:ext cx="1657440" cy="1177920"/>
          </a:xfrm>
          <a:prstGeom prst="rect">
            <a:avLst/>
          </a:prstGeom>
          <a:ln w="0">
            <a:noFill/>
          </a:ln>
        </p:spPr>
      </p:pic>
      <p:sp>
        <p:nvSpPr>
          <p:cNvPr id="1105" name="圆角矩形标注 7"/>
          <p:cNvSpPr/>
          <p:nvPr/>
        </p:nvSpPr>
        <p:spPr>
          <a:xfrm>
            <a:off x="2533680" y="5545080"/>
            <a:ext cx="4199040" cy="646200"/>
          </a:xfrm>
          <a:prstGeom prst="wedgeRoundRectCallout">
            <a:avLst>
              <a:gd name="adj1" fmla="val -65773"/>
              <a:gd name="adj2" fmla="val -24976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圆角矩形标注 9"/>
          <p:cNvSpPr/>
          <p:nvPr/>
        </p:nvSpPr>
        <p:spPr>
          <a:xfrm>
            <a:off x="4862520" y="1785960"/>
            <a:ext cx="2628720" cy="1428840"/>
          </a:xfrm>
          <a:prstGeom prst="wedgeRoundRectCallout">
            <a:avLst>
              <a:gd name="adj1" fmla="val 62643"/>
              <a:gd name="adj2" fmla="val 66134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24"/>
          <p:cNvSpPr/>
          <p:nvPr/>
        </p:nvSpPr>
        <p:spPr>
          <a:xfrm>
            <a:off x="4140000" y="55450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叔叔检验得快一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图片 6" descr=""/>
          <p:cNvPicPr/>
          <p:nvPr/>
        </p:nvPicPr>
        <p:blipFill>
          <a:blip r:embed="rId3"/>
          <a:stretch/>
        </p:blipFill>
        <p:spPr>
          <a:xfrm>
            <a:off x="1468440" y="2711520"/>
            <a:ext cx="917640" cy="168588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10" descr=""/>
          <p:cNvPicPr/>
          <p:nvPr/>
        </p:nvPicPr>
        <p:blipFill>
          <a:blip r:embed="rId4"/>
          <a:stretch/>
        </p:blipFill>
        <p:spPr>
          <a:xfrm>
            <a:off x="1503360" y="1352520"/>
            <a:ext cx="897120" cy="1674720"/>
          </a:xfrm>
          <a:prstGeom prst="rect">
            <a:avLst/>
          </a:prstGeom>
          <a:ln w="0">
            <a:noFill/>
          </a:ln>
        </p:spPr>
      </p:pic>
      <p:sp>
        <p:nvSpPr>
          <p:cNvPr id="1110" name="矩形 15"/>
          <p:cNvSpPr/>
          <p:nvPr/>
        </p:nvSpPr>
        <p:spPr>
          <a:xfrm>
            <a:off x="4824360" y="1733400"/>
            <a:ext cx="274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小公倍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公分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1" name="图片 18" descr=""/>
          <p:cNvPicPr/>
          <p:nvPr/>
        </p:nvPicPr>
        <p:blipFill>
          <a:blip r:embed="rId5"/>
          <a:stretch/>
        </p:blipFill>
        <p:spPr>
          <a:xfrm>
            <a:off x="2251080" y="3979800"/>
            <a:ext cx="1641600" cy="1508040"/>
          </a:xfrm>
          <a:prstGeom prst="rect">
            <a:avLst/>
          </a:prstGeom>
          <a:ln w="0">
            <a:noFill/>
          </a:ln>
        </p:spPr>
      </p:pic>
      <p:pic>
        <p:nvPicPr>
          <p:cNvPr id="1112" name="图片 1" descr=""/>
          <p:cNvPicPr/>
          <p:nvPr/>
        </p:nvPicPr>
        <p:blipFill>
          <a:blip r:embed="rId6"/>
          <a:stretch/>
        </p:blipFill>
        <p:spPr>
          <a:xfrm>
            <a:off x="1951200" y="1469880"/>
            <a:ext cx="2884320" cy="137484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2" descr=""/>
          <p:cNvPicPr/>
          <p:nvPr/>
        </p:nvPicPr>
        <p:blipFill>
          <a:blip r:embed="rId7"/>
          <a:stretch/>
        </p:blipFill>
        <p:spPr>
          <a:xfrm>
            <a:off x="1982880" y="2889360"/>
            <a:ext cx="286056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Picture 2" descr=""/>
          <p:cNvPicPr/>
          <p:nvPr/>
        </p:nvPicPr>
        <p:blipFill>
          <a:blip r:embed="rId1"/>
          <a:stretch/>
        </p:blipFill>
        <p:spPr>
          <a:xfrm>
            <a:off x="7236000" y="5229360"/>
            <a:ext cx="1368360" cy="928440"/>
          </a:xfrm>
          <a:prstGeom prst="rect">
            <a:avLst/>
          </a:prstGeom>
          <a:ln w="0">
            <a:noFill/>
          </a:ln>
        </p:spPr>
      </p:pic>
      <p:sp>
        <p:nvSpPr>
          <p:cNvPr id="1117" name="圆角矩形标注 6"/>
          <p:cNvSpPr/>
          <p:nvPr/>
        </p:nvSpPr>
        <p:spPr>
          <a:xfrm>
            <a:off x="1187280" y="5084640"/>
            <a:ext cx="6488280" cy="720720"/>
          </a:xfrm>
          <a:prstGeom prst="wedgeRoundRectCallout">
            <a:avLst>
              <a:gd name="adj1" fmla="val 55240"/>
              <a:gd name="adj2" fmla="val 27018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8"/>
          <p:cNvSpPr/>
          <p:nvPr/>
        </p:nvSpPr>
        <p:spPr>
          <a:xfrm>
            <a:off x="3419640" y="1166760"/>
            <a:ext cx="3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矩形 10"/>
          <p:cNvSpPr/>
          <p:nvPr/>
        </p:nvSpPr>
        <p:spPr>
          <a:xfrm>
            <a:off x="1035000" y="1573200"/>
            <a:ext cx="67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几个分母不相同的分数，分别化成和原来分数相等并且分母相同的分数的过程，叫做通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3"/>
          <p:cNvSpPr/>
          <p:nvPr/>
        </p:nvSpPr>
        <p:spPr>
          <a:xfrm>
            <a:off x="1228680" y="5121360"/>
            <a:ext cx="69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什么叫通分？通分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矩形 11"/>
          <p:cNvSpPr/>
          <p:nvPr/>
        </p:nvSpPr>
        <p:spPr>
          <a:xfrm>
            <a:off x="1030320" y="3219480"/>
            <a:ext cx="678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●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分可以比较两个分母不同的分数的大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图片 3" descr=""/>
          <p:cNvPicPr/>
          <p:nvPr/>
        </p:nvPicPr>
        <p:blipFill>
          <a:blip r:embed="rId1"/>
          <a:stretch/>
        </p:blipFill>
        <p:spPr>
          <a:xfrm>
            <a:off x="2627280" y="907920"/>
            <a:ext cx="4845240" cy="150840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7" descr=""/>
          <p:cNvPicPr/>
          <p:nvPr/>
        </p:nvPicPr>
        <p:blipFill>
          <a:blip r:embed="rId2"/>
          <a:stretch/>
        </p:blipFill>
        <p:spPr>
          <a:xfrm>
            <a:off x="2987640" y="2205000"/>
            <a:ext cx="3816360" cy="1612800"/>
          </a:xfrm>
          <a:prstGeom prst="rect">
            <a:avLst/>
          </a:prstGeom>
          <a:ln w="0">
            <a:noFill/>
          </a:ln>
        </p:spPr>
      </p:pic>
      <p:pic>
        <p:nvPicPr>
          <p:cNvPr id="1126" name="图片 24" descr=""/>
          <p:cNvPicPr/>
          <p:nvPr/>
        </p:nvPicPr>
        <p:blipFill>
          <a:blip r:embed="rId3"/>
          <a:stretch/>
        </p:blipFill>
        <p:spPr>
          <a:xfrm>
            <a:off x="3022560" y="3705120"/>
            <a:ext cx="3672000" cy="1541520"/>
          </a:xfrm>
          <a:prstGeom prst="rect">
            <a:avLst/>
          </a:prstGeom>
          <a:ln w="0">
            <a:noFill/>
          </a:ln>
        </p:spPr>
      </p:pic>
      <p:pic>
        <p:nvPicPr>
          <p:cNvPr id="1127" name="图片 26" descr=""/>
          <p:cNvPicPr/>
          <p:nvPr/>
        </p:nvPicPr>
        <p:blipFill>
          <a:blip r:embed="rId4"/>
          <a:stretch/>
        </p:blipFill>
        <p:spPr>
          <a:xfrm>
            <a:off x="3851280" y="4941720"/>
            <a:ext cx="1665360" cy="15163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11"/>
          <p:cNvSpPr/>
          <p:nvPr/>
        </p:nvSpPr>
        <p:spPr>
          <a:xfrm>
            <a:off x="900000" y="26542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1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3" descr=""/>
          <p:cNvPicPr/>
          <p:nvPr/>
        </p:nvPicPr>
        <p:blipFill>
          <a:blip r:embed="rId1"/>
          <a:stretch/>
        </p:blipFill>
        <p:spPr>
          <a:xfrm>
            <a:off x="669960" y="1773360"/>
            <a:ext cx="7502400" cy="33112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"/>
          <p:cNvPicPr/>
          <p:nvPr/>
        </p:nvPicPr>
        <p:blipFill>
          <a:blip r:embed="rId2"/>
          <a:stretch/>
        </p:blipFill>
        <p:spPr>
          <a:xfrm>
            <a:off x="7164360" y="4869000"/>
            <a:ext cx="1393920" cy="1358640"/>
          </a:xfrm>
          <a:prstGeom prst="rect">
            <a:avLst/>
          </a:prstGeom>
          <a:ln w="0">
            <a:noFill/>
          </a:ln>
        </p:spPr>
      </p:pic>
      <p:sp>
        <p:nvSpPr>
          <p:cNvPr id="1131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8" descr=""/>
          <p:cNvPicPr/>
          <p:nvPr/>
        </p:nvPicPr>
        <p:blipFill>
          <a:blip r:embed="rId3"/>
          <a:stretch/>
        </p:blipFill>
        <p:spPr>
          <a:xfrm>
            <a:off x="1403280" y="4027320"/>
            <a:ext cx="576360" cy="1057320"/>
          </a:xfrm>
          <a:prstGeom prst="rect">
            <a:avLst/>
          </a:prstGeom>
          <a:ln w="0">
            <a:noFill/>
          </a:ln>
        </p:spPr>
      </p:pic>
      <p:pic>
        <p:nvPicPr>
          <p:cNvPr id="1134" name="图片 9" descr=""/>
          <p:cNvPicPr/>
          <p:nvPr/>
        </p:nvPicPr>
        <p:blipFill>
          <a:blip r:embed="rId4"/>
          <a:stretch/>
        </p:blipFill>
        <p:spPr>
          <a:xfrm>
            <a:off x="5006880" y="4043520"/>
            <a:ext cx="542880" cy="1000080"/>
          </a:xfrm>
          <a:prstGeom prst="rect">
            <a:avLst/>
          </a:prstGeom>
          <a:ln w="0">
            <a:noFill/>
          </a:ln>
        </p:spPr>
      </p:pic>
      <p:pic>
        <p:nvPicPr>
          <p:cNvPr id="1135" name="图片 10" descr=""/>
          <p:cNvPicPr/>
          <p:nvPr/>
        </p:nvPicPr>
        <p:blipFill>
          <a:blip r:embed="rId5"/>
          <a:stretch/>
        </p:blipFill>
        <p:spPr>
          <a:xfrm>
            <a:off x="2676600" y="3992400"/>
            <a:ext cx="544320" cy="1000440"/>
          </a:xfrm>
          <a:prstGeom prst="rect">
            <a:avLst/>
          </a:prstGeom>
          <a:ln w="0">
            <a:noFill/>
          </a:ln>
        </p:spPr>
      </p:pic>
      <p:pic>
        <p:nvPicPr>
          <p:cNvPr id="1136" name="图片 12" descr=""/>
          <p:cNvPicPr/>
          <p:nvPr/>
        </p:nvPicPr>
        <p:blipFill>
          <a:blip r:embed="rId6"/>
          <a:stretch/>
        </p:blipFill>
        <p:spPr>
          <a:xfrm>
            <a:off x="6259680" y="3968640"/>
            <a:ext cx="544320" cy="1000080"/>
          </a:xfrm>
          <a:prstGeom prst="rect">
            <a:avLst/>
          </a:prstGeom>
          <a:ln w="0">
            <a:noFill/>
          </a:ln>
        </p:spPr>
      </p:pic>
      <p:sp>
        <p:nvSpPr>
          <p:cNvPr id="1137" name="任意多边形 3"/>
          <p:cNvSpPr/>
          <p:nvPr/>
        </p:nvSpPr>
        <p:spPr>
          <a:xfrm>
            <a:off x="493560" y="1684440"/>
            <a:ext cx="7628040" cy="1189080"/>
          </a:xfrm>
          <a:custGeom>
            <a:avLst/>
            <a:gdLst/>
            <a:ahLst/>
            <a:rect l="l" t="t" r="r" b="b"/>
            <a:pathLst>
              <a:path w="7627620" h="1188720">
                <a:moveTo>
                  <a:pt x="83820" y="129540"/>
                </a:moveTo>
                <a:lnTo>
                  <a:pt x="175260" y="129540"/>
                </a:lnTo>
                <a:lnTo>
                  <a:pt x="243840" y="129540"/>
                </a:lnTo>
                <a:lnTo>
                  <a:pt x="312420" y="121920"/>
                </a:lnTo>
                <a:lnTo>
                  <a:pt x="419100" y="99060"/>
                </a:lnTo>
                <a:lnTo>
                  <a:pt x="525780" y="76200"/>
                </a:lnTo>
                <a:lnTo>
                  <a:pt x="624840" y="60960"/>
                </a:lnTo>
                <a:lnTo>
                  <a:pt x="731520" y="38100"/>
                </a:lnTo>
                <a:lnTo>
                  <a:pt x="800100" y="30480"/>
                </a:lnTo>
                <a:lnTo>
                  <a:pt x="899160" y="22860"/>
                </a:lnTo>
                <a:lnTo>
                  <a:pt x="998220" y="22860"/>
                </a:lnTo>
                <a:lnTo>
                  <a:pt x="1097280" y="15240"/>
                </a:lnTo>
                <a:lnTo>
                  <a:pt x="1173480" y="0"/>
                </a:lnTo>
                <a:lnTo>
                  <a:pt x="1257300" y="0"/>
                </a:lnTo>
                <a:lnTo>
                  <a:pt x="1341120" y="0"/>
                </a:lnTo>
                <a:lnTo>
                  <a:pt x="1424940" y="0"/>
                </a:lnTo>
                <a:lnTo>
                  <a:pt x="1524000" y="0"/>
                </a:lnTo>
                <a:lnTo>
                  <a:pt x="1630680" y="0"/>
                </a:lnTo>
                <a:lnTo>
                  <a:pt x="1729740" y="0"/>
                </a:lnTo>
                <a:lnTo>
                  <a:pt x="1836420" y="0"/>
                </a:lnTo>
                <a:lnTo>
                  <a:pt x="1927860" y="0"/>
                </a:lnTo>
                <a:lnTo>
                  <a:pt x="2019300" y="0"/>
                </a:lnTo>
                <a:lnTo>
                  <a:pt x="2095500" y="0"/>
                </a:lnTo>
                <a:lnTo>
                  <a:pt x="2217420" y="0"/>
                </a:lnTo>
                <a:lnTo>
                  <a:pt x="2316480" y="0"/>
                </a:lnTo>
                <a:lnTo>
                  <a:pt x="2385060" y="0"/>
                </a:lnTo>
                <a:lnTo>
                  <a:pt x="2484120" y="0"/>
                </a:lnTo>
                <a:lnTo>
                  <a:pt x="2598420" y="0"/>
                </a:lnTo>
                <a:lnTo>
                  <a:pt x="2682240" y="0"/>
                </a:lnTo>
                <a:lnTo>
                  <a:pt x="2827020" y="0"/>
                </a:lnTo>
                <a:lnTo>
                  <a:pt x="2926080" y="0"/>
                </a:lnTo>
                <a:lnTo>
                  <a:pt x="3025140" y="0"/>
                </a:lnTo>
                <a:lnTo>
                  <a:pt x="3108960" y="0"/>
                </a:lnTo>
                <a:lnTo>
                  <a:pt x="3200400" y="0"/>
                </a:lnTo>
                <a:lnTo>
                  <a:pt x="3284220" y="0"/>
                </a:lnTo>
                <a:lnTo>
                  <a:pt x="3368040" y="0"/>
                </a:lnTo>
                <a:lnTo>
                  <a:pt x="3436620" y="0"/>
                </a:lnTo>
                <a:lnTo>
                  <a:pt x="3550920" y="0"/>
                </a:lnTo>
                <a:lnTo>
                  <a:pt x="3657600" y="0"/>
                </a:lnTo>
                <a:lnTo>
                  <a:pt x="3749040" y="0"/>
                </a:lnTo>
                <a:lnTo>
                  <a:pt x="3870960" y="0"/>
                </a:lnTo>
                <a:lnTo>
                  <a:pt x="3939540" y="0"/>
                </a:lnTo>
                <a:lnTo>
                  <a:pt x="4015740" y="0"/>
                </a:lnTo>
                <a:lnTo>
                  <a:pt x="4091940" y="0"/>
                </a:lnTo>
                <a:lnTo>
                  <a:pt x="4175760" y="0"/>
                </a:lnTo>
                <a:lnTo>
                  <a:pt x="4259580" y="0"/>
                </a:lnTo>
                <a:lnTo>
                  <a:pt x="4343400" y="0"/>
                </a:lnTo>
                <a:lnTo>
                  <a:pt x="4419600" y="0"/>
                </a:lnTo>
                <a:lnTo>
                  <a:pt x="4488180" y="0"/>
                </a:lnTo>
                <a:lnTo>
                  <a:pt x="4572000" y="0"/>
                </a:lnTo>
                <a:lnTo>
                  <a:pt x="4655820" y="0"/>
                </a:lnTo>
                <a:lnTo>
                  <a:pt x="4739640" y="0"/>
                </a:lnTo>
                <a:lnTo>
                  <a:pt x="4808220" y="0"/>
                </a:lnTo>
                <a:lnTo>
                  <a:pt x="4892040" y="0"/>
                </a:lnTo>
                <a:lnTo>
                  <a:pt x="4975860" y="0"/>
                </a:lnTo>
                <a:lnTo>
                  <a:pt x="5052060" y="0"/>
                </a:lnTo>
                <a:lnTo>
                  <a:pt x="5120640" y="0"/>
                </a:lnTo>
                <a:lnTo>
                  <a:pt x="5204460" y="0"/>
                </a:lnTo>
                <a:lnTo>
                  <a:pt x="5280660" y="0"/>
                </a:lnTo>
                <a:lnTo>
                  <a:pt x="5410200" y="0"/>
                </a:lnTo>
                <a:lnTo>
                  <a:pt x="5478780" y="0"/>
                </a:lnTo>
                <a:lnTo>
                  <a:pt x="5593080" y="0"/>
                </a:lnTo>
                <a:lnTo>
                  <a:pt x="5699760" y="0"/>
                </a:lnTo>
                <a:lnTo>
                  <a:pt x="5814060" y="0"/>
                </a:lnTo>
                <a:lnTo>
                  <a:pt x="5928360" y="0"/>
                </a:lnTo>
                <a:lnTo>
                  <a:pt x="6065520" y="0"/>
                </a:lnTo>
                <a:lnTo>
                  <a:pt x="6134100" y="0"/>
                </a:lnTo>
                <a:lnTo>
                  <a:pt x="6210300" y="0"/>
                </a:lnTo>
                <a:lnTo>
                  <a:pt x="6278880" y="0"/>
                </a:lnTo>
                <a:lnTo>
                  <a:pt x="6355080" y="0"/>
                </a:lnTo>
                <a:lnTo>
                  <a:pt x="6469380" y="0"/>
                </a:lnTo>
                <a:lnTo>
                  <a:pt x="6553200" y="0"/>
                </a:lnTo>
                <a:lnTo>
                  <a:pt x="6629400" y="0"/>
                </a:lnTo>
                <a:lnTo>
                  <a:pt x="6705600" y="0"/>
                </a:lnTo>
                <a:lnTo>
                  <a:pt x="6789420" y="0"/>
                </a:lnTo>
                <a:lnTo>
                  <a:pt x="6873240" y="0"/>
                </a:lnTo>
                <a:lnTo>
                  <a:pt x="6964680" y="0"/>
                </a:lnTo>
                <a:lnTo>
                  <a:pt x="7063740" y="22860"/>
                </a:lnTo>
                <a:lnTo>
                  <a:pt x="7139940" y="38100"/>
                </a:lnTo>
                <a:lnTo>
                  <a:pt x="7208520" y="53340"/>
                </a:lnTo>
                <a:lnTo>
                  <a:pt x="7277100" y="68580"/>
                </a:lnTo>
                <a:lnTo>
                  <a:pt x="7368540" y="76200"/>
                </a:lnTo>
                <a:lnTo>
                  <a:pt x="7437120" y="91440"/>
                </a:lnTo>
                <a:lnTo>
                  <a:pt x="7505700" y="129540"/>
                </a:lnTo>
                <a:lnTo>
                  <a:pt x="7581900" y="175260"/>
                </a:lnTo>
                <a:lnTo>
                  <a:pt x="7620000" y="243840"/>
                </a:lnTo>
                <a:lnTo>
                  <a:pt x="7627620" y="312420"/>
                </a:lnTo>
                <a:lnTo>
                  <a:pt x="7627620" y="388620"/>
                </a:lnTo>
                <a:lnTo>
                  <a:pt x="7627620" y="457200"/>
                </a:lnTo>
                <a:lnTo>
                  <a:pt x="7620000" y="541020"/>
                </a:lnTo>
                <a:lnTo>
                  <a:pt x="7597140" y="624840"/>
                </a:lnTo>
                <a:lnTo>
                  <a:pt x="7574280" y="693420"/>
                </a:lnTo>
                <a:lnTo>
                  <a:pt x="7498080" y="746760"/>
                </a:lnTo>
                <a:lnTo>
                  <a:pt x="7421880" y="777240"/>
                </a:lnTo>
                <a:lnTo>
                  <a:pt x="7345680" y="792480"/>
                </a:lnTo>
                <a:lnTo>
                  <a:pt x="7261860" y="815340"/>
                </a:lnTo>
                <a:lnTo>
                  <a:pt x="7185660" y="822960"/>
                </a:lnTo>
                <a:lnTo>
                  <a:pt x="7101840" y="822960"/>
                </a:lnTo>
                <a:lnTo>
                  <a:pt x="7025640" y="822960"/>
                </a:lnTo>
                <a:lnTo>
                  <a:pt x="6957060" y="822960"/>
                </a:lnTo>
                <a:lnTo>
                  <a:pt x="6880860" y="822960"/>
                </a:lnTo>
                <a:lnTo>
                  <a:pt x="6804660" y="822960"/>
                </a:lnTo>
                <a:lnTo>
                  <a:pt x="6720840" y="830580"/>
                </a:lnTo>
                <a:lnTo>
                  <a:pt x="6621780" y="845820"/>
                </a:lnTo>
                <a:lnTo>
                  <a:pt x="6537960" y="845820"/>
                </a:lnTo>
                <a:lnTo>
                  <a:pt x="6469380" y="845820"/>
                </a:lnTo>
                <a:lnTo>
                  <a:pt x="6377940" y="845820"/>
                </a:lnTo>
                <a:lnTo>
                  <a:pt x="6286500" y="861060"/>
                </a:lnTo>
                <a:lnTo>
                  <a:pt x="6210300" y="868680"/>
                </a:lnTo>
                <a:lnTo>
                  <a:pt x="6126480" y="868680"/>
                </a:lnTo>
                <a:lnTo>
                  <a:pt x="6035040" y="868680"/>
                </a:lnTo>
                <a:lnTo>
                  <a:pt x="5951220" y="868680"/>
                </a:lnTo>
                <a:lnTo>
                  <a:pt x="5852160" y="868680"/>
                </a:lnTo>
                <a:lnTo>
                  <a:pt x="5745480" y="868680"/>
                </a:lnTo>
                <a:lnTo>
                  <a:pt x="5631180" y="868680"/>
                </a:lnTo>
                <a:lnTo>
                  <a:pt x="5509260" y="868680"/>
                </a:lnTo>
                <a:lnTo>
                  <a:pt x="5379720" y="868680"/>
                </a:lnTo>
                <a:lnTo>
                  <a:pt x="5257800" y="868680"/>
                </a:lnTo>
                <a:lnTo>
                  <a:pt x="5135880" y="868680"/>
                </a:lnTo>
                <a:lnTo>
                  <a:pt x="5067300" y="868680"/>
                </a:lnTo>
                <a:lnTo>
                  <a:pt x="4953000" y="868680"/>
                </a:lnTo>
                <a:lnTo>
                  <a:pt x="4861560" y="868680"/>
                </a:lnTo>
                <a:lnTo>
                  <a:pt x="4777740" y="868680"/>
                </a:lnTo>
                <a:lnTo>
                  <a:pt x="4701540" y="868680"/>
                </a:lnTo>
                <a:lnTo>
                  <a:pt x="4564380" y="868680"/>
                </a:lnTo>
                <a:lnTo>
                  <a:pt x="4480560" y="868680"/>
                </a:lnTo>
                <a:lnTo>
                  <a:pt x="4389120" y="868680"/>
                </a:lnTo>
                <a:lnTo>
                  <a:pt x="4297680" y="868680"/>
                </a:lnTo>
                <a:lnTo>
                  <a:pt x="4183380" y="868680"/>
                </a:lnTo>
                <a:lnTo>
                  <a:pt x="4053840" y="868680"/>
                </a:lnTo>
                <a:lnTo>
                  <a:pt x="3931920" y="868680"/>
                </a:lnTo>
                <a:lnTo>
                  <a:pt x="3825240" y="868680"/>
                </a:lnTo>
                <a:lnTo>
                  <a:pt x="3726180" y="868680"/>
                </a:lnTo>
                <a:lnTo>
                  <a:pt x="3649980" y="868680"/>
                </a:lnTo>
                <a:lnTo>
                  <a:pt x="3573780" y="868680"/>
                </a:lnTo>
                <a:lnTo>
                  <a:pt x="3489960" y="868680"/>
                </a:lnTo>
                <a:lnTo>
                  <a:pt x="3398520" y="868680"/>
                </a:lnTo>
                <a:lnTo>
                  <a:pt x="3329940" y="868680"/>
                </a:lnTo>
                <a:lnTo>
                  <a:pt x="3261360" y="868680"/>
                </a:lnTo>
                <a:lnTo>
                  <a:pt x="3185160" y="868680"/>
                </a:lnTo>
                <a:lnTo>
                  <a:pt x="3116580" y="868680"/>
                </a:lnTo>
                <a:lnTo>
                  <a:pt x="3025140" y="868680"/>
                </a:lnTo>
                <a:lnTo>
                  <a:pt x="2933700" y="868680"/>
                </a:lnTo>
                <a:lnTo>
                  <a:pt x="2857500" y="868680"/>
                </a:lnTo>
                <a:lnTo>
                  <a:pt x="2788920" y="883920"/>
                </a:lnTo>
                <a:lnTo>
                  <a:pt x="2720340" y="906780"/>
                </a:lnTo>
                <a:lnTo>
                  <a:pt x="2644140" y="929640"/>
                </a:lnTo>
                <a:lnTo>
                  <a:pt x="2575560" y="944880"/>
                </a:lnTo>
                <a:lnTo>
                  <a:pt x="2506980" y="960120"/>
                </a:lnTo>
                <a:lnTo>
                  <a:pt x="2438400" y="998220"/>
                </a:lnTo>
                <a:lnTo>
                  <a:pt x="2369820" y="1036320"/>
                </a:lnTo>
                <a:lnTo>
                  <a:pt x="2301240" y="1089660"/>
                </a:lnTo>
                <a:lnTo>
                  <a:pt x="2232660" y="1112520"/>
                </a:lnTo>
                <a:lnTo>
                  <a:pt x="2164080" y="1150620"/>
                </a:lnTo>
                <a:lnTo>
                  <a:pt x="2095500" y="1165860"/>
                </a:lnTo>
                <a:lnTo>
                  <a:pt x="2026920" y="1165860"/>
                </a:lnTo>
                <a:lnTo>
                  <a:pt x="1958340" y="1150620"/>
                </a:lnTo>
                <a:lnTo>
                  <a:pt x="1889760" y="1120140"/>
                </a:lnTo>
                <a:lnTo>
                  <a:pt x="1821180" y="1120140"/>
                </a:lnTo>
                <a:lnTo>
                  <a:pt x="1752600" y="1120140"/>
                </a:lnTo>
                <a:lnTo>
                  <a:pt x="1684020" y="1127760"/>
                </a:lnTo>
                <a:lnTo>
                  <a:pt x="1615440" y="1143000"/>
                </a:lnTo>
                <a:lnTo>
                  <a:pt x="1546860" y="1158240"/>
                </a:lnTo>
                <a:lnTo>
                  <a:pt x="1478280" y="1158240"/>
                </a:lnTo>
                <a:lnTo>
                  <a:pt x="1409700" y="1158240"/>
                </a:lnTo>
                <a:lnTo>
                  <a:pt x="1341120" y="1158240"/>
                </a:lnTo>
                <a:lnTo>
                  <a:pt x="1272540" y="1158240"/>
                </a:lnTo>
                <a:lnTo>
                  <a:pt x="1196340" y="1158240"/>
                </a:lnTo>
                <a:lnTo>
                  <a:pt x="1127760" y="1158240"/>
                </a:lnTo>
                <a:lnTo>
                  <a:pt x="1059180" y="1150620"/>
                </a:lnTo>
                <a:lnTo>
                  <a:pt x="990600" y="1135380"/>
                </a:lnTo>
                <a:lnTo>
                  <a:pt x="922020" y="1127760"/>
                </a:lnTo>
                <a:lnTo>
                  <a:pt x="853440" y="1135380"/>
                </a:lnTo>
                <a:lnTo>
                  <a:pt x="784860" y="1143000"/>
                </a:lnTo>
                <a:lnTo>
                  <a:pt x="716280" y="1158240"/>
                </a:lnTo>
                <a:lnTo>
                  <a:pt x="647700" y="1165860"/>
                </a:lnTo>
                <a:lnTo>
                  <a:pt x="579120" y="1173480"/>
                </a:lnTo>
                <a:lnTo>
                  <a:pt x="510540" y="1173480"/>
                </a:lnTo>
                <a:lnTo>
                  <a:pt x="441960" y="1173480"/>
                </a:lnTo>
                <a:lnTo>
                  <a:pt x="373380" y="1173480"/>
                </a:lnTo>
                <a:lnTo>
                  <a:pt x="304800" y="1181100"/>
                </a:lnTo>
                <a:lnTo>
                  <a:pt x="228600" y="1188720"/>
                </a:lnTo>
                <a:lnTo>
                  <a:pt x="160020" y="1181100"/>
                </a:lnTo>
                <a:lnTo>
                  <a:pt x="121920" y="1104900"/>
                </a:lnTo>
                <a:lnTo>
                  <a:pt x="121920" y="1028700"/>
                </a:lnTo>
                <a:lnTo>
                  <a:pt x="106680" y="960120"/>
                </a:lnTo>
                <a:lnTo>
                  <a:pt x="91440" y="883920"/>
                </a:lnTo>
                <a:lnTo>
                  <a:pt x="76200" y="815340"/>
                </a:lnTo>
                <a:lnTo>
                  <a:pt x="60960" y="739140"/>
                </a:lnTo>
                <a:lnTo>
                  <a:pt x="45720" y="670560"/>
                </a:lnTo>
                <a:lnTo>
                  <a:pt x="30480" y="601980"/>
                </a:lnTo>
                <a:lnTo>
                  <a:pt x="22860" y="525780"/>
                </a:lnTo>
                <a:lnTo>
                  <a:pt x="15240" y="449580"/>
                </a:lnTo>
                <a:lnTo>
                  <a:pt x="15240" y="365760"/>
                </a:lnTo>
                <a:lnTo>
                  <a:pt x="0" y="297180"/>
                </a:lnTo>
                <a:lnTo>
                  <a:pt x="0" y="228600"/>
                </a:lnTo>
                <a:lnTo>
                  <a:pt x="30480" y="160020"/>
                </a:lnTo>
                <a:lnTo>
                  <a:pt x="83820" y="12954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文本框 6"/>
          <p:cNvSpPr/>
          <p:nvPr/>
        </p:nvSpPr>
        <p:spPr>
          <a:xfrm>
            <a:off x="2083320" y="1425600"/>
            <a:ext cx="47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想一想，议一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看图写出分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把两个分数通分并在图中表示出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2" descr=""/>
          <p:cNvPicPr/>
          <p:nvPr/>
        </p:nvPicPr>
        <p:blipFill>
          <a:blip r:embed="rId1"/>
          <a:stretch/>
        </p:blipFill>
        <p:spPr>
          <a:xfrm>
            <a:off x="644400" y="5259240"/>
            <a:ext cx="1047960" cy="906480"/>
          </a:xfrm>
          <a:prstGeom prst="rect">
            <a:avLst/>
          </a:prstGeom>
          <a:ln w="0">
            <a:noFill/>
          </a:ln>
        </p:spPr>
      </p:pic>
      <p:sp>
        <p:nvSpPr>
          <p:cNvPr id="1140" name="同侧圆角矩形 2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文本框 1"/>
          <p:cNvSpPr/>
          <p:nvPr/>
        </p:nvSpPr>
        <p:spPr>
          <a:xfrm>
            <a:off x="3562920" y="8366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化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图片 4" descr=""/>
          <p:cNvPicPr/>
          <p:nvPr/>
        </p:nvPicPr>
        <p:blipFill>
          <a:blip r:embed="rId2"/>
          <a:stretch/>
        </p:blipFill>
        <p:spPr>
          <a:xfrm>
            <a:off x="1979640" y="1982880"/>
            <a:ext cx="4944960" cy="2712960"/>
          </a:xfrm>
          <a:prstGeom prst="rect">
            <a:avLst/>
          </a:prstGeom>
          <a:ln w="0">
            <a:noFill/>
          </a:ln>
        </p:spPr>
      </p:pic>
      <p:pic>
        <p:nvPicPr>
          <p:cNvPr id="1144" name="图片 5" descr=""/>
          <p:cNvPicPr/>
          <p:nvPr/>
        </p:nvPicPr>
        <p:blipFill>
          <a:blip r:embed="rId3"/>
          <a:stretch/>
        </p:blipFill>
        <p:spPr>
          <a:xfrm>
            <a:off x="2700360" y="1949400"/>
            <a:ext cx="1603440" cy="1365480"/>
          </a:xfrm>
          <a:prstGeom prst="rect">
            <a:avLst/>
          </a:prstGeom>
          <a:ln w="0">
            <a:noFill/>
          </a:ln>
        </p:spPr>
      </p:pic>
      <p:pic>
        <p:nvPicPr>
          <p:cNvPr id="1145" name="图片 6" descr=""/>
          <p:cNvPicPr/>
          <p:nvPr/>
        </p:nvPicPr>
        <p:blipFill>
          <a:blip r:embed="rId4"/>
          <a:stretch/>
        </p:blipFill>
        <p:spPr>
          <a:xfrm>
            <a:off x="5364000" y="1922400"/>
            <a:ext cx="1665360" cy="1419120"/>
          </a:xfrm>
          <a:prstGeom prst="rect">
            <a:avLst/>
          </a:prstGeom>
          <a:ln w="0">
            <a:noFill/>
          </a:ln>
        </p:spPr>
      </p:pic>
      <p:pic>
        <p:nvPicPr>
          <p:cNvPr id="1146" name="图片 7" descr=""/>
          <p:cNvPicPr/>
          <p:nvPr/>
        </p:nvPicPr>
        <p:blipFill>
          <a:blip r:embed="rId5"/>
          <a:stretch/>
        </p:blipFill>
        <p:spPr>
          <a:xfrm>
            <a:off x="2719440" y="3305160"/>
            <a:ext cx="1584360" cy="1349280"/>
          </a:xfrm>
          <a:prstGeom prst="rect">
            <a:avLst/>
          </a:prstGeom>
          <a:ln w="0">
            <a:noFill/>
          </a:ln>
        </p:spPr>
      </p:pic>
      <p:pic>
        <p:nvPicPr>
          <p:cNvPr id="1147" name="图片 8" descr=""/>
          <p:cNvPicPr/>
          <p:nvPr/>
        </p:nvPicPr>
        <p:blipFill>
          <a:blip r:embed="rId6"/>
          <a:stretch/>
        </p:blipFill>
        <p:spPr>
          <a:xfrm>
            <a:off x="5388120" y="3262320"/>
            <a:ext cx="1703160" cy="1450800"/>
          </a:xfrm>
          <a:prstGeom prst="rect">
            <a:avLst/>
          </a:prstGeom>
          <a:ln w="0">
            <a:noFill/>
          </a:ln>
        </p:spPr>
      </p:pic>
      <p:sp>
        <p:nvSpPr>
          <p:cNvPr id="1148" name="文本框 10"/>
          <p:cNvSpPr/>
          <p:nvPr/>
        </p:nvSpPr>
        <p:spPr>
          <a:xfrm>
            <a:off x="2273040" y="4660920"/>
            <a:ext cx="50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易错提醒：最简分数的最终结果是分子与分母互质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组合 13"/>
          <p:cNvGrpSpPr/>
          <p:nvPr/>
        </p:nvGrpSpPr>
        <p:grpSpPr>
          <a:xfrm>
            <a:off x="7028640" y="2760840"/>
            <a:ext cx="674640" cy="1159920"/>
            <a:chOff x="7028640" y="2760840"/>
            <a:chExt cx="674640" cy="1159920"/>
          </a:xfrm>
        </p:grpSpPr>
        <p:sp>
          <p:nvSpPr>
            <p:cNvPr id="1150" name="文本框 9"/>
            <p:cNvSpPr/>
            <p:nvPr/>
          </p:nvSpPr>
          <p:spPr>
            <a:xfrm>
              <a:off x="7028640" y="333936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文本框 11"/>
            <p:cNvSpPr/>
            <p:nvPr/>
          </p:nvSpPr>
          <p:spPr>
            <a:xfrm>
              <a:off x="7056360" y="27608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文本框 12"/>
            <p:cNvSpPr/>
            <p:nvPr/>
          </p:nvSpPr>
          <p:spPr>
            <a:xfrm>
              <a:off x="7085880" y="30646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3" name="组合 14"/>
          <p:cNvGrpSpPr/>
          <p:nvPr/>
        </p:nvGrpSpPr>
        <p:grpSpPr>
          <a:xfrm>
            <a:off x="7573320" y="2743200"/>
            <a:ext cx="903600" cy="1161000"/>
            <a:chOff x="7573320" y="2743200"/>
            <a:chExt cx="903600" cy="1161000"/>
          </a:xfrm>
        </p:grpSpPr>
        <p:sp>
          <p:nvSpPr>
            <p:cNvPr id="1154" name="文本框 15"/>
            <p:cNvSpPr/>
            <p:nvPr/>
          </p:nvSpPr>
          <p:spPr>
            <a:xfrm>
              <a:off x="7801920" y="33228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文本框 16"/>
            <p:cNvSpPr/>
            <p:nvPr/>
          </p:nvSpPr>
          <p:spPr>
            <a:xfrm>
              <a:off x="7830000" y="274320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文本框 17"/>
            <p:cNvSpPr/>
            <p:nvPr/>
          </p:nvSpPr>
          <p:spPr>
            <a:xfrm>
              <a:off x="7573320" y="3049560"/>
              <a:ext cx="82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=</a:t>
              </a:r>
              <a:r>
                <a:rPr b="0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Picture 2" descr=""/>
          <p:cNvPicPr/>
          <p:nvPr/>
        </p:nvPicPr>
        <p:blipFill>
          <a:blip r:embed="rId1"/>
          <a:stretch/>
        </p:blipFill>
        <p:spPr>
          <a:xfrm>
            <a:off x="5796000" y="5264280"/>
            <a:ext cx="1079640" cy="888840"/>
          </a:xfrm>
          <a:prstGeom prst="rect">
            <a:avLst/>
          </a:prstGeom>
          <a:ln w="0">
            <a:noFill/>
          </a:ln>
        </p:spPr>
      </p:pic>
      <p:sp>
        <p:nvSpPr>
          <p:cNvPr id="1158" name="同侧圆角矩形 2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0" name="图片 5" descr=""/>
          <p:cNvPicPr/>
          <p:nvPr/>
        </p:nvPicPr>
        <p:blipFill>
          <a:blip r:embed="rId2"/>
          <a:stretch/>
        </p:blipFill>
        <p:spPr>
          <a:xfrm>
            <a:off x="1476360" y="3716280"/>
            <a:ext cx="6586560" cy="1339920"/>
          </a:xfrm>
          <a:prstGeom prst="rect">
            <a:avLst/>
          </a:prstGeom>
          <a:ln w="0">
            <a:noFill/>
          </a:ln>
        </p:spPr>
      </p:pic>
      <p:pic>
        <p:nvPicPr>
          <p:cNvPr id="1161" name="图片 6" descr=""/>
          <p:cNvPicPr/>
          <p:nvPr/>
        </p:nvPicPr>
        <p:blipFill>
          <a:blip r:embed="rId3"/>
          <a:stretch/>
        </p:blipFill>
        <p:spPr>
          <a:xfrm>
            <a:off x="1476360" y="2403360"/>
            <a:ext cx="6480360" cy="1098720"/>
          </a:xfrm>
          <a:prstGeom prst="rect">
            <a:avLst/>
          </a:prstGeom>
          <a:ln w="0">
            <a:noFill/>
          </a:ln>
        </p:spPr>
      </p:pic>
      <p:sp>
        <p:nvSpPr>
          <p:cNvPr id="1162" name="文本框 7"/>
          <p:cNvSpPr/>
          <p:nvPr/>
        </p:nvSpPr>
        <p:spPr>
          <a:xfrm>
            <a:off x="2656800" y="1477800"/>
            <a:ext cx="37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○里填上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&gt;”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“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&lt;”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”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圆角矩形标注 9"/>
          <p:cNvSpPr/>
          <p:nvPr/>
        </p:nvSpPr>
        <p:spPr>
          <a:xfrm>
            <a:off x="1517760" y="5240160"/>
            <a:ext cx="4105080" cy="721080"/>
          </a:xfrm>
          <a:prstGeom prst="wedgeRoundRectCallout">
            <a:avLst>
              <a:gd name="adj1" fmla="val 55240"/>
              <a:gd name="adj2" fmla="val 27018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10"/>
          <p:cNvSpPr/>
          <p:nvPr/>
        </p:nvSpPr>
        <p:spPr>
          <a:xfrm>
            <a:off x="1517760" y="5307120"/>
            <a:ext cx="43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说说你是怎么比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8"/>
          <p:cNvSpPr/>
          <p:nvPr/>
        </p:nvSpPr>
        <p:spPr>
          <a:xfrm>
            <a:off x="6504120" y="2598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12"/>
          <p:cNvSpPr/>
          <p:nvPr/>
        </p:nvSpPr>
        <p:spPr>
          <a:xfrm>
            <a:off x="2400120" y="3933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13"/>
          <p:cNvSpPr/>
          <p:nvPr/>
        </p:nvSpPr>
        <p:spPr>
          <a:xfrm>
            <a:off x="2414520" y="2598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14"/>
          <p:cNvSpPr/>
          <p:nvPr/>
        </p:nvSpPr>
        <p:spPr>
          <a:xfrm>
            <a:off x="6473880" y="3933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组合 10"/>
          <p:cNvGrpSpPr/>
          <p:nvPr/>
        </p:nvGrpSpPr>
        <p:grpSpPr>
          <a:xfrm>
            <a:off x="523800" y="844560"/>
            <a:ext cx="2257560" cy="612360"/>
            <a:chOff x="523800" y="844560"/>
            <a:chExt cx="2257560" cy="612360"/>
          </a:xfrm>
        </p:grpSpPr>
        <p:sp>
          <p:nvSpPr>
            <p:cNvPr id="956" name="直线连接符 21"/>
            <p:cNvSpPr/>
            <p:nvPr/>
          </p:nvSpPr>
          <p:spPr>
            <a:xfrm flipV="1">
              <a:off x="523800" y="1450800"/>
              <a:ext cx="225756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同侧圆角矩形 23"/>
            <p:cNvSpPr/>
            <p:nvPr/>
          </p:nvSpPr>
          <p:spPr>
            <a:xfrm>
              <a:off x="652320" y="844560"/>
              <a:ext cx="2000520" cy="515880"/>
            </a:xfrm>
            <a:prstGeom prst="pie">
              <a:avLst/>
            </a:pr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8" name="Picture 3" descr=""/>
          <p:cNvPicPr/>
          <p:nvPr/>
        </p:nvPicPr>
        <p:blipFill>
          <a:blip r:embed="rId1"/>
          <a:stretch/>
        </p:blipFill>
        <p:spPr>
          <a:xfrm>
            <a:off x="7227720" y="5122800"/>
            <a:ext cx="1697040" cy="1093680"/>
          </a:xfrm>
          <a:prstGeom prst="rect">
            <a:avLst/>
          </a:prstGeom>
          <a:ln w="0">
            <a:noFill/>
          </a:ln>
        </p:spPr>
      </p:pic>
      <p:sp>
        <p:nvSpPr>
          <p:cNvPr id="959" name="TextBox 5"/>
          <p:cNvSpPr/>
          <p:nvPr/>
        </p:nvSpPr>
        <p:spPr>
          <a:xfrm>
            <a:off x="755640" y="1517760"/>
            <a:ext cx="71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最简分数的含义，理解什么是约分，掌握约分的方法并能用这个方法正确地约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"/>
          <p:cNvSpPr/>
          <p:nvPr/>
        </p:nvSpPr>
        <p:spPr>
          <a:xfrm>
            <a:off x="766800" y="3330720"/>
            <a:ext cx="71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用找分母的最小公倍数的方法，把两个异分母分数化成同分母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"/>
          <p:cNvSpPr/>
          <p:nvPr/>
        </p:nvSpPr>
        <p:spPr>
          <a:xfrm>
            <a:off x="776160" y="494172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会约分和通分在数学中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图片 1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1150920" cy="1760400"/>
          </a:xfrm>
          <a:prstGeom prst="rect">
            <a:avLst/>
          </a:prstGeom>
          <a:ln w="0">
            <a:noFill/>
          </a:ln>
        </p:spPr>
      </p:pic>
      <p:sp>
        <p:nvSpPr>
          <p:cNvPr id="1170" name="文本框 2"/>
          <p:cNvSpPr/>
          <p:nvPr/>
        </p:nvSpPr>
        <p:spPr>
          <a:xfrm>
            <a:off x="2968560" y="83664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较下面分数的大小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你发现了什么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1" name="图片 3" descr=""/>
          <p:cNvPicPr/>
          <p:nvPr/>
        </p:nvPicPr>
        <p:blipFill>
          <a:blip r:embed="rId2"/>
          <a:stretch/>
        </p:blipFill>
        <p:spPr>
          <a:xfrm>
            <a:off x="301680" y="2475000"/>
            <a:ext cx="8842320" cy="17762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2" descr=""/>
          <p:cNvPicPr/>
          <p:nvPr/>
        </p:nvPicPr>
        <p:blipFill>
          <a:blip r:embed="rId3"/>
          <a:stretch/>
        </p:blipFill>
        <p:spPr>
          <a:xfrm>
            <a:off x="7164360" y="4869000"/>
            <a:ext cx="1393920" cy="1358640"/>
          </a:xfrm>
          <a:prstGeom prst="rect">
            <a:avLst/>
          </a:prstGeom>
          <a:ln w="0">
            <a:noFill/>
          </a:ln>
        </p:spPr>
      </p:pic>
      <p:sp>
        <p:nvSpPr>
          <p:cNvPr id="1173" name="圆角矩形标注 5"/>
          <p:cNvSpPr/>
          <p:nvPr/>
        </p:nvSpPr>
        <p:spPr>
          <a:xfrm>
            <a:off x="2987640" y="5045040"/>
            <a:ext cx="4680000" cy="954000"/>
          </a:xfrm>
          <a:prstGeom prst="wedgeRoundRectCallout">
            <a:avLst>
              <a:gd name="adj1" fmla="val 55240"/>
              <a:gd name="adj2" fmla="val 27018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文本框 6"/>
          <p:cNvSpPr/>
          <p:nvPr/>
        </p:nvSpPr>
        <p:spPr>
          <a:xfrm>
            <a:off x="2987640" y="50450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子、分母差相同的真分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母大的分数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3"/>
          <p:cNvSpPr/>
          <p:nvPr/>
        </p:nvSpPr>
        <p:spPr>
          <a:xfrm>
            <a:off x="2475000" y="2492280"/>
            <a:ext cx="3198240" cy="1739880"/>
          </a:xfrm>
          <a:prstGeom prst="rect">
            <a:avLst/>
          </a:prstGeom>
          <a:solidFill>
            <a:srgbClr val="f1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什么叫约分？怎样约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什么叫通分？怎样通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约分和通分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3" descr=""/>
          <p:cNvPicPr/>
          <p:nvPr/>
        </p:nvPicPr>
        <p:blipFill>
          <a:blip r:embed="rId1"/>
          <a:stretch/>
        </p:blipFill>
        <p:spPr>
          <a:xfrm>
            <a:off x="6732720" y="781200"/>
            <a:ext cx="1295280" cy="976320"/>
          </a:xfrm>
          <a:prstGeom prst="rect">
            <a:avLst/>
          </a:prstGeom>
          <a:ln w="0">
            <a:noFill/>
          </a:ln>
        </p:spPr>
      </p:pic>
      <p:sp>
        <p:nvSpPr>
          <p:cNvPr id="963" name="同侧圆角矩形 5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3"/>
          <p:cNvSpPr/>
          <p:nvPr/>
        </p:nvSpPr>
        <p:spPr>
          <a:xfrm>
            <a:off x="2877480" y="2781360"/>
            <a:ext cx="348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公因数和最小公因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8"/>
          <p:cNvSpPr/>
          <p:nvPr/>
        </p:nvSpPr>
        <p:spPr>
          <a:xfrm>
            <a:off x="1527120" y="1812960"/>
            <a:ext cx="37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什么叫分数的基本性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 9"/>
          <p:cNvSpPr/>
          <p:nvPr/>
        </p:nvSpPr>
        <p:spPr>
          <a:xfrm>
            <a:off x="1938960" y="3805200"/>
            <a:ext cx="32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最小公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组合 5"/>
          <p:cNvGrpSpPr/>
          <p:nvPr/>
        </p:nvGrpSpPr>
        <p:grpSpPr>
          <a:xfrm>
            <a:off x="468360" y="993600"/>
            <a:ext cx="2071800" cy="661680"/>
            <a:chOff x="468360" y="993600"/>
            <a:chExt cx="2071800" cy="661680"/>
          </a:xfrm>
        </p:grpSpPr>
        <p:sp>
          <p:nvSpPr>
            <p:cNvPr id="969" name="直线连接符 21"/>
            <p:cNvSpPr/>
            <p:nvPr/>
          </p:nvSpPr>
          <p:spPr>
            <a:xfrm flipV="1">
              <a:off x="468360" y="164916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同侧圆角矩形 7"/>
            <p:cNvSpPr/>
            <p:nvPr/>
          </p:nvSpPr>
          <p:spPr>
            <a:xfrm>
              <a:off x="468360" y="99360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cfdfe"/>
                </a:gs>
                <a:gs pos="100000">
                  <a:srgbClr val="eef7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同侧圆角矩形 9"/>
          <p:cNvSpPr/>
          <p:nvPr/>
        </p:nvSpPr>
        <p:spPr>
          <a:xfrm>
            <a:off x="44460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6732720" y="855720"/>
            <a:ext cx="1655640" cy="103824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1" descr=""/>
          <p:cNvPicPr/>
          <p:nvPr/>
        </p:nvPicPr>
        <p:blipFill>
          <a:blip r:embed="rId2"/>
          <a:stretch/>
        </p:blipFill>
        <p:spPr>
          <a:xfrm>
            <a:off x="2138400" y="1893960"/>
            <a:ext cx="1673280" cy="685800"/>
          </a:xfrm>
          <a:prstGeom prst="rect">
            <a:avLst/>
          </a:prstGeom>
          <a:ln w="0">
            <a:noFill/>
          </a:ln>
        </p:spPr>
      </p:pic>
      <p:sp>
        <p:nvSpPr>
          <p:cNvPr id="974" name="文本框 3"/>
          <p:cNvSpPr/>
          <p:nvPr/>
        </p:nvSpPr>
        <p:spPr>
          <a:xfrm>
            <a:off x="1619280" y="295920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12" descr=""/>
          <p:cNvPicPr/>
          <p:nvPr/>
        </p:nvPicPr>
        <p:blipFill>
          <a:blip r:embed="rId3"/>
          <a:stretch/>
        </p:blipFill>
        <p:spPr>
          <a:xfrm>
            <a:off x="6515280" y="3720960"/>
            <a:ext cx="1334880" cy="1635120"/>
          </a:xfrm>
          <a:prstGeom prst="rect">
            <a:avLst/>
          </a:prstGeom>
          <a:ln w="0">
            <a:noFill/>
          </a:ln>
        </p:spPr>
      </p:pic>
      <p:sp>
        <p:nvSpPr>
          <p:cNvPr id="976" name="圆角矩形标注 14"/>
          <p:cNvSpPr/>
          <p:nvPr/>
        </p:nvSpPr>
        <p:spPr>
          <a:xfrm>
            <a:off x="4284720" y="830160"/>
            <a:ext cx="2897280" cy="784440"/>
          </a:xfrm>
          <a:prstGeom prst="wedgeRoundRectCallout">
            <a:avLst>
              <a:gd name="adj1" fmla="val 62504"/>
              <a:gd name="adj2" fmla="val 31148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图片 18" descr=""/>
          <p:cNvPicPr/>
          <p:nvPr/>
        </p:nvPicPr>
        <p:blipFill>
          <a:blip r:embed="rId4"/>
          <a:stretch/>
        </p:blipFill>
        <p:spPr>
          <a:xfrm>
            <a:off x="4500720" y="798480"/>
            <a:ext cx="2850840" cy="906480"/>
          </a:xfrm>
          <a:prstGeom prst="rect">
            <a:avLst/>
          </a:prstGeom>
          <a:ln w="0">
            <a:noFill/>
          </a:ln>
        </p:spPr>
      </p:pic>
      <p:sp>
        <p:nvSpPr>
          <p:cNvPr id="978" name="圆角矩形标注 21"/>
          <p:cNvSpPr/>
          <p:nvPr/>
        </p:nvSpPr>
        <p:spPr>
          <a:xfrm>
            <a:off x="3203640" y="3290760"/>
            <a:ext cx="3878280" cy="889200"/>
          </a:xfrm>
          <a:prstGeom prst="wedgeRoundRectCallout">
            <a:avLst>
              <a:gd name="adj1" fmla="val 50532"/>
              <a:gd name="adj2" fmla="val 70226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堆卡片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中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是彩色卡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图片 20" descr=""/>
          <p:cNvPicPr/>
          <p:nvPr/>
        </p:nvPicPr>
        <p:blipFill>
          <a:blip r:embed="rId5"/>
          <a:stretch/>
        </p:blipFill>
        <p:spPr>
          <a:xfrm>
            <a:off x="574560" y="5164200"/>
            <a:ext cx="795600" cy="1177920"/>
          </a:xfrm>
          <a:prstGeom prst="rect">
            <a:avLst/>
          </a:prstGeom>
          <a:ln w="0">
            <a:noFill/>
          </a:ln>
        </p:spPr>
      </p:pic>
      <p:sp>
        <p:nvSpPr>
          <p:cNvPr id="980" name="圆角矩形标注 24"/>
          <p:cNvSpPr/>
          <p:nvPr/>
        </p:nvSpPr>
        <p:spPr>
          <a:xfrm>
            <a:off x="1254240" y="4427640"/>
            <a:ext cx="2886120" cy="1212840"/>
          </a:xfrm>
          <a:prstGeom prst="wedgeRoundRectCallout">
            <a:avLst>
              <a:gd name="adj1" fmla="val -54546"/>
              <a:gd name="adj2" fmla="val 34032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把这个分数化成分子分母比较小的分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文本框 1"/>
          <p:cNvSpPr/>
          <p:nvPr/>
        </p:nvSpPr>
        <p:spPr>
          <a:xfrm>
            <a:off x="3257280" y="2579760"/>
            <a:ext cx="10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彩色卡片占全部卡片的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对象 3"/>
              <p:cNvSpPr txBox="1"/>
              <p:nvPr/>
            </p:nvSpPr>
            <p:spPr>
              <a:xfrm>
                <a:off x="5349960" y="2495520"/>
                <a:ext cx="368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2" descr=""/>
          <p:cNvPicPr/>
          <p:nvPr/>
        </p:nvPicPr>
        <p:blipFill>
          <a:blip r:embed="rId1"/>
          <a:stretch/>
        </p:blipFill>
        <p:spPr>
          <a:xfrm>
            <a:off x="674640" y="5013360"/>
            <a:ext cx="1657440" cy="1177920"/>
          </a:xfrm>
          <a:prstGeom prst="rect">
            <a:avLst/>
          </a:prstGeom>
          <a:ln w="0">
            <a:noFill/>
          </a:ln>
        </p:spPr>
      </p:pic>
      <p:sp>
        <p:nvSpPr>
          <p:cNvPr id="986" name="圆角矩形标注 7"/>
          <p:cNvSpPr/>
          <p:nvPr/>
        </p:nvSpPr>
        <p:spPr>
          <a:xfrm>
            <a:off x="2552760" y="5033880"/>
            <a:ext cx="5761080" cy="811440"/>
          </a:xfrm>
          <a:prstGeom prst="wedgeRoundRectCallout">
            <a:avLst>
              <a:gd name="adj1" fmla="val -59162"/>
              <a:gd name="adj2" fmla="val 20462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2"/>
          <a:stretch/>
        </p:blipFill>
        <p:spPr>
          <a:xfrm>
            <a:off x="2654280" y="4940280"/>
            <a:ext cx="5880240" cy="99864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2" descr=""/>
          <p:cNvPicPr/>
          <p:nvPr/>
        </p:nvPicPr>
        <p:blipFill>
          <a:blip r:embed="rId3"/>
          <a:stretch/>
        </p:blipFill>
        <p:spPr>
          <a:xfrm>
            <a:off x="6948360" y="981000"/>
            <a:ext cx="1008360" cy="1231920"/>
          </a:xfrm>
          <a:prstGeom prst="rect">
            <a:avLst/>
          </a:prstGeom>
          <a:ln w="0">
            <a:noFill/>
          </a:ln>
        </p:spPr>
      </p:pic>
      <p:sp>
        <p:nvSpPr>
          <p:cNvPr id="989" name="圆角矩形标注 9"/>
          <p:cNvSpPr/>
          <p:nvPr/>
        </p:nvSpPr>
        <p:spPr>
          <a:xfrm>
            <a:off x="4932360" y="1190520"/>
            <a:ext cx="1814400" cy="811440"/>
          </a:xfrm>
          <a:prstGeom prst="wedgeRoundRectCallout">
            <a:avLst>
              <a:gd name="adj1" fmla="val 66120"/>
              <a:gd name="adj2" fmla="val -11328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分数的性质可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图片 3" descr=""/>
          <p:cNvPicPr/>
          <p:nvPr/>
        </p:nvPicPr>
        <p:blipFill>
          <a:blip r:embed="rId4"/>
          <a:stretch/>
        </p:blipFill>
        <p:spPr>
          <a:xfrm>
            <a:off x="2857680" y="2076480"/>
            <a:ext cx="2736720" cy="100008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11" descr=""/>
          <p:cNvPicPr/>
          <p:nvPr/>
        </p:nvPicPr>
        <p:blipFill>
          <a:blip r:embed="rId5"/>
          <a:stretch/>
        </p:blipFill>
        <p:spPr>
          <a:xfrm>
            <a:off x="2857680" y="3170160"/>
            <a:ext cx="2746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Picture 2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1758960" cy="1419120"/>
          </a:xfrm>
          <a:prstGeom prst="rect">
            <a:avLst/>
          </a:prstGeom>
          <a:ln w="0">
            <a:noFill/>
          </a:ln>
        </p:spPr>
      </p:pic>
      <p:sp>
        <p:nvSpPr>
          <p:cNvPr id="993" name="文本框 6"/>
          <p:cNvSpPr/>
          <p:nvPr/>
        </p:nvSpPr>
        <p:spPr>
          <a:xfrm>
            <a:off x="1784520" y="4437000"/>
            <a:ext cx="6295680" cy="1612800"/>
          </a:xfrm>
          <a:prstGeom prst="rect">
            <a:avLst/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像上面这样，把一个分数化成同它相等，且分子、分母都比原来小的分数的过程，叫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约分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图片 7" descr=""/>
          <p:cNvPicPr/>
          <p:nvPr/>
        </p:nvPicPr>
        <p:blipFill>
          <a:blip r:embed="rId2"/>
          <a:stretch/>
        </p:blipFill>
        <p:spPr>
          <a:xfrm>
            <a:off x="1908000" y="2001960"/>
            <a:ext cx="2735280" cy="1000080"/>
          </a:xfrm>
          <a:prstGeom prst="rect">
            <a:avLst/>
          </a:prstGeom>
          <a:ln w="0">
            <a:noFill/>
          </a:ln>
        </p:spPr>
      </p:pic>
      <p:pic>
        <p:nvPicPr>
          <p:cNvPr id="995" name="图片 8" descr=""/>
          <p:cNvPicPr/>
          <p:nvPr/>
        </p:nvPicPr>
        <p:blipFill>
          <a:blip r:embed="rId3"/>
          <a:stretch/>
        </p:blipFill>
        <p:spPr>
          <a:xfrm>
            <a:off x="1908000" y="2998800"/>
            <a:ext cx="2745000" cy="998640"/>
          </a:xfrm>
          <a:prstGeom prst="rect">
            <a:avLst/>
          </a:prstGeom>
          <a:ln w="0">
            <a:noFill/>
          </a:ln>
        </p:spPr>
      </p:pic>
      <p:sp>
        <p:nvSpPr>
          <p:cNvPr id="996" name="同侧圆角矩形 9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圆角矩形标注 11"/>
          <p:cNvSpPr/>
          <p:nvPr/>
        </p:nvSpPr>
        <p:spPr>
          <a:xfrm>
            <a:off x="4932360" y="1190520"/>
            <a:ext cx="1814400" cy="811440"/>
          </a:xfrm>
          <a:prstGeom prst="wedgeRoundRectCallout">
            <a:avLst>
              <a:gd name="adj1" fmla="val 66120"/>
              <a:gd name="adj2" fmla="val -11328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样做就是约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1"/>
          <p:cNvSpPr/>
          <p:nvPr/>
        </p:nvSpPr>
        <p:spPr>
          <a:xfrm>
            <a:off x="1859040" y="1857240"/>
            <a:ext cx="2793960" cy="2160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2" descr=""/>
          <p:cNvPicPr/>
          <p:nvPr/>
        </p:nvPicPr>
        <p:blipFill>
          <a:blip r:embed="rId1"/>
          <a:stretch/>
        </p:blipFill>
        <p:spPr>
          <a:xfrm>
            <a:off x="674640" y="5156280"/>
            <a:ext cx="1657440" cy="1177920"/>
          </a:xfrm>
          <a:prstGeom prst="rect">
            <a:avLst/>
          </a:prstGeom>
          <a:ln w="0">
            <a:noFill/>
          </a:ln>
        </p:spPr>
      </p:pic>
      <p:sp>
        <p:nvSpPr>
          <p:cNvPr id="1003" name="圆角矩形标注 7"/>
          <p:cNvSpPr/>
          <p:nvPr/>
        </p:nvSpPr>
        <p:spPr>
          <a:xfrm>
            <a:off x="2552760" y="5176800"/>
            <a:ext cx="5143320" cy="811080"/>
          </a:xfrm>
          <a:prstGeom prst="wedgeRoundRectCallout">
            <a:avLst>
              <a:gd name="adj1" fmla="val -59162"/>
              <a:gd name="adj2" fmla="val 20462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图片 2" descr=""/>
          <p:cNvPicPr/>
          <p:nvPr/>
        </p:nvPicPr>
        <p:blipFill>
          <a:blip r:embed="rId2"/>
          <a:stretch/>
        </p:blipFill>
        <p:spPr>
          <a:xfrm>
            <a:off x="7569360" y="981000"/>
            <a:ext cx="603000" cy="1231920"/>
          </a:xfrm>
          <a:prstGeom prst="rect">
            <a:avLst/>
          </a:prstGeom>
          <a:ln w="0">
            <a:noFill/>
          </a:ln>
        </p:spPr>
      </p:pic>
      <p:sp>
        <p:nvSpPr>
          <p:cNvPr id="1005" name="圆角矩形标注 9"/>
          <p:cNvSpPr/>
          <p:nvPr/>
        </p:nvSpPr>
        <p:spPr>
          <a:xfrm>
            <a:off x="5408640" y="1190520"/>
            <a:ext cx="1814400" cy="811440"/>
          </a:xfrm>
          <a:prstGeom prst="wedgeRoundRectCallout">
            <a:avLst>
              <a:gd name="adj1" fmla="val 66120"/>
              <a:gd name="adj2" fmla="val -11328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公因数去除除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图片 10" descr=""/>
          <p:cNvPicPr/>
          <p:nvPr/>
        </p:nvPicPr>
        <p:blipFill>
          <a:blip r:embed="rId3"/>
          <a:stretch/>
        </p:blipFill>
        <p:spPr>
          <a:xfrm>
            <a:off x="2519280" y="5295960"/>
            <a:ext cx="5423040" cy="57312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12" descr=""/>
          <p:cNvPicPr/>
          <p:nvPr/>
        </p:nvPicPr>
        <p:blipFill>
          <a:blip r:embed="rId4"/>
          <a:stretch/>
        </p:blipFill>
        <p:spPr>
          <a:xfrm>
            <a:off x="1044720" y="2162160"/>
            <a:ext cx="863280" cy="1533600"/>
          </a:xfrm>
          <a:prstGeom prst="rect">
            <a:avLst/>
          </a:prstGeom>
          <a:ln w="0">
            <a:noFill/>
          </a:ln>
        </p:spPr>
      </p:pic>
      <p:sp>
        <p:nvSpPr>
          <p:cNvPr id="1008" name="圆角矩形标注 14"/>
          <p:cNvSpPr/>
          <p:nvPr/>
        </p:nvSpPr>
        <p:spPr>
          <a:xfrm>
            <a:off x="1857240" y="1522440"/>
            <a:ext cx="3003840" cy="1100160"/>
          </a:xfrm>
          <a:prstGeom prst="wedgeRoundRectCallout">
            <a:avLst>
              <a:gd name="adj1" fmla="val -51194"/>
              <a:gd name="adj2" fmla="val 77865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子分母填同时除以公因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再除以公因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直接连接符 16"/>
          <p:cNvSpPr/>
          <p:nvPr/>
        </p:nvSpPr>
        <p:spPr>
          <a:xfrm>
            <a:off x="3781440" y="4137120"/>
            <a:ext cx="73512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18"/>
          <p:cNvSpPr/>
          <p:nvPr/>
        </p:nvSpPr>
        <p:spPr>
          <a:xfrm>
            <a:off x="3740040" y="3595680"/>
            <a:ext cx="73656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17"/>
          <p:cNvSpPr/>
          <p:nvPr/>
        </p:nvSpPr>
        <p:spPr>
          <a:xfrm>
            <a:off x="3766320" y="42940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20"/>
          <p:cNvSpPr/>
          <p:nvPr/>
        </p:nvSpPr>
        <p:spPr>
          <a:xfrm>
            <a:off x="3805200" y="30463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19"/>
          <p:cNvSpPr/>
          <p:nvPr/>
        </p:nvSpPr>
        <p:spPr>
          <a:xfrm>
            <a:off x="3807000" y="4516560"/>
            <a:ext cx="73476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接连接符 21"/>
          <p:cNvSpPr/>
          <p:nvPr/>
        </p:nvSpPr>
        <p:spPr>
          <a:xfrm>
            <a:off x="3813120" y="3265560"/>
            <a:ext cx="73656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文本框 22"/>
          <p:cNvSpPr/>
          <p:nvPr/>
        </p:nvSpPr>
        <p:spPr>
          <a:xfrm>
            <a:off x="3871800" y="4662360"/>
            <a:ext cx="4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23"/>
          <p:cNvSpPr/>
          <p:nvPr/>
        </p:nvSpPr>
        <p:spPr>
          <a:xfrm>
            <a:off x="3981600" y="26478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3" descr=""/>
          <p:cNvPicPr/>
          <p:nvPr/>
        </p:nvPicPr>
        <p:blipFill>
          <a:blip r:embed="rId5"/>
          <a:stretch/>
        </p:blipFill>
        <p:spPr>
          <a:xfrm>
            <a:off x="3701880" y="3414600"/>
            <a:ext cx="943200" cy="1282680"/>
          </a:xfrm>
          <a:prstGeom prst="rect">
            <a:avLst/>
          </a:prstGeom>
          <a:ln w="0">
            <a:noFill/>
          </a:ln>
        </p:spPr>
      </p:pic>
      <p:pic>
        <p:nvPicPr>
          <p:cNvPr id="1018" name="图片 6" descr=""/>
          <p:cNvPicPr/>
          <p:nvPr/>
        </p:nvPicPr>
        <p:blipFill>
          <a:blip r:embed="rId6"/>
          <a:stretch/>
        </p:blipFill>
        <p:spPr>
          <a:xfrm>
            <a:off x="4357800" y="3247920"/>
            <a:ext cx="13190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同侧圆角矩形 4"/>
          <p:cNvSpPr/>
          <p:nvPr/>
        </p:nvSpPr>
        <p:spPr>
          <a:xfrm>
            <a:off x="468360" y="836640"/>
            <a:ext cx="2000160" cy="5158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例题精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线连接符 21"/>
          <p:cNvSpPr/>
          <p:nvPr/>
        </p:nvSpPr>
        <p:spPr>
          <a:xfrm flipV="1">
            <a:off x="468360" y="14126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2" descr=""/>
          <p:cNvPicPr/>
          <p:nvPr/>
        </p:nvPicPr>
        <p:blipFill>
          <a:blip r:embed="rId1"/>
          <a:stretch/>
        </p:blipFill>
        <p:spPr>
          <a:xfrm>
            <a:off x="674640" y="5013360"/>
            <a:ext cx="1657440" cy="1177920"/>
          </a:xfrm>
          <a:prstGeom prst="rect">
            <a:avLst/>
          </a:prstGeom>
          <a:ln w="0">
            <a:noFill/>
          </a:ln>
        </p:spPr>
      </p:pic>
      <p:sp>
        <p:nvSpPr>
          <p:cNvPr id="1022" name="圆角矩形标注 7"/>
          <p:cNvSpPr/>
          <p:nvPr/>
        </p:nvSpPr>
        <p:spPr>
          <a:xfrm>
            <a:off x="2552760" y="5145120"/>
            <a:ext cx="4322880" cy="646200"/>
          </a:xfrm>
          <a:prstGeom prst="wedgeRoundRectCallout">
            <a:avLst>
              <a:gd name="adj1" fmla="val -59162"/>
              <a:gd name="adj2" fmla="val 20462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图片 2" descr=""/>
          <p:cNvPicPr/>
          <p:nvPr/>
        </p:nvPicPr>
        <p:blipFill>
          <a:blip r:embed="rId2"/>
          <a:stretch/>
        </p:blipFill>
        <p:spPr>
          <a:xfrm>
            <a:off x="6962760" y="3595680"/>
            <a:ext cx="955800" cy="992160"/>
          </a:xfrm>
          <a:prstGeom prst="rect">
            <a:avLst/>
          </a:prstGeom>
          <a:ln w="0">
            <a:noFill/>
          </a:ln>
        </p:spPr>
      </p:pic>
      <p:sp>
        <p:nvSpPr>
          <p:cNvPr id="1024" name="圆角矩形标注 9"/>
          <p:cNvSpPr/>
          <p:nvPr/>
        </p:nvSpPr>
        <p:spPr>
          <a:xfrm>
            <a:off x="4849920" y="3433680"/>
            <a:ext cx="2112840" cy="770040"/>
          </a:xfrm>
          <a:prstGeom prst="wedgeRoundRectCallout">
            <a:avLst>
              <a:gd name="adj1" fmla="val 66120"/>
              <a:gd name="adj2" fmla="val -11328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它们的最大公因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去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直接连接符 16"/>
          <p:cNvSpPr/>
          <p:nvPr/>
        </p:nvSpPr>
        <p:spPr>
          <a:xfrm>
            <a:off x="2784600" y="3336840"/>
            <a:ext cx="73476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18"/>
          <p:cNvSpPr/>
          <p:nvPr/>
        </p:nvSpPr>
        <p:spPr>
          <a:xfrm>
            <a:off x="2743200" y="2795760"/>
            <a:ext cx="736560" cy="193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文本框 17"/>
          <p:cNvSpPr/>
          <p:nvPr/>
        </p:nvSpPr>
        <p:spPr>
          <a:xfrm>
            <a:off x="2901960" y="3560760"/>
            <a:ext cx="4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文本框 20"/>
          <p:cNvSpPr/>
          <p:nvPr/>
        </p:nvSpPr>
        <p:spPr>
          <a:xfrm>
            <a:off x="2924280" y="21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图片 19" descr=""/>
          <p:cNvPicPr/>
          <p:nvPr/>
        </p:nvPicPr>
        <p:blipFill>
          <a:blip r:embed="rId3"/>
          <a:stretch/>
        </p:blipFill>
        <p:spPr>
          <a:xfrm>
            <a:off x="2651040" y="2575080"/>
            <a:ext cx="943200" cy="12826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21" descr=""/>
          <p:cNvPicPr/>
          <p:nvPr/>
        </p:nvPicPr>
        <p:blipFill>
          <a:blip r:embed="rId4"/>
          <a:stretch/>
        </p:blipFill>
        <p:spPr>
          <a:xfrm>
            <a:off x="3354480" y="2471760"/>
            <a:ext cx="1155600" cy="1388880"/>
          </a:xfrm>
          <a:prstGeom prst="rect">
            <a:avLst/>
          </a:prstGeom>
          <a:ln w="0">
            <a:noFill/>
          </a:ln>
        </p:spPr>
      </p:pic>
      <p:sp>
        <p:nvSpPr>
          <p:cNvPr id="1031" name="文本框 3"/>
          <p:cNvSpPr/>
          <p:nvPr/>
        </p:nvSpPr>
        <p:spPr>
          <a:xfrm>
            <a:off x="4597920" y="5145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种方法又快又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fcfdfe"/>
              </a:gs>
              <a:gs pos="100000">
                <a:srgbClr val="eef7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线连接符 21"/>
          <p:cNvSpPr/>
          <p:nvPr/>
        </p:nvSpPr>
        <p:spPr>
          <a:xfrm flipV="1">
            <a:off x="468360" y="148428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2" descr=""/>
          <p:cNvPicPr/>
          <p:nvPr/>
        </p:nvPicPr>
        <p:blipFill>
          <a:blip r:embed="rId1"/>
          <a:stretch/>
        </p:blipFill>
        <p:spPr>
          <a:xfrm>
            <a:off x="7236000" y="5229360"/>
            <a:ext cx="1368360" cy="928440"/>
          </a:xfrm>
          <a:prstGeom prst="rect">
            <a:avLst/>
          </a:prstGeom>
          <a:ln w="0">
            <a:noFill/>
          </a:ln>
        </p:spPr>
      </p:pic>
      <p:sp>
        <p:nvSpPr>
          <p:cNvPr id="1035" name="圆角矩形标注 6"/>
          <p:cNvSpPr/>
          <p:nvPr/>
        </p:nvSpPr>
        <p:spPr>
          <a:xfrm>
            <a:off x="1908000" y="4795920"/>
            <a:ext cx="5767560" cy="1009440"/>
          </a:xfrm>
          <a:prstGeom prst="wedgeRoundRectCallout">
            <a:avLst>
              <a:gd name="adj1" fmla="val 53819"/>
              <a:gd name="adj2" fmla="val 36495"/>
              <a:gd name="adj3" fmla="val 16667"/>
            </a:avLst>
          </a:prstGeom>
          <a:solidFill>
            <a:srgbClr val="f1f9f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文本框 8"/>
          <p:cNvSpPr/>
          <p:nvPr/>
        </p:nvSpPr>
        <p:spPr>
          <a:xfrm>
            <a:off x="3419640" y="1166760"/>
            <a:ext cx="3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图片 9" descr=""/>
          <p:cNvPicPr/>
          <p:nvPr/>
        </p:nvPicPr>
        <p:blipFill>
          <a:blip r:embed="rId2"/>
          <a:stretch/>
        </p:blipFill>
        <p:spPr>
          <a:xfrm>
            <a:off x="1908000" y="4730760"/>
            <a:ext cx="6108840" cy="1219320"/>
          </a:xfrm>
          <a:prstGeom prst="rect">
            <a:avLst/>
          </a:prstGeom>
          <a:ln w="0">
            <a:noFill/>
          </a:ln>
        </p:spPr>
      </p:pic>
      <p:sp>
        <p:nvSpPr>
          <p:cNvPr id="1038" name="矩形 10"/>
          <p:cNvSpPr/>
          <p:nvPr/>
        </p:nvSpPr>
        <p:spPr>
          <a:xfrm>
            <a:off x="2124000" y="251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分子、分母是互质数的分数是最简分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7T08:27:0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